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4F31-946A-4A13-B33C-EB597CBB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870-94D0-49E8-A92E-B60ACA42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DC6-630D-4B2C-8657-9F001EC7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D7C-F435-4899-983C-51D25529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E599-6610-4AAE-A7A6-93F6C4E5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EF1E-C49F-4D87-A3B4-61AB479A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6E57-1B04-46C7-AC6E-C253C049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772E-4673-40BF-A827-8CB63CDD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2687-695D-495B-A2D3-16C54B63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954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1D36-5D9B-4FA0-82EB-25702834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A460-2629-4D86-8C2F-3ADBDCF1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2AD-11EA-4D8D-BBC9-B70A83ED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56F3-776B-4161-B909-C33F57A3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04D2-5678-41CC-A4C7-59E87206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8DED-6117-4367-A8ED-9AFFD387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3047-32F7-4BB8-A41F-9C4D68DD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F695-E5EF-419C-B6B6-8946EE87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60D1-293B-46EB-B099-F291AEAD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AA1-95BD-4CC7-8334-EB7052A2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716F-3F81-4754-B5E2-4D09E874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954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484-64E5-4675-98C6-6053B25B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6A2-7946-4B33-BA1E-ED9FEFE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266-FFFD-463F-8AFB-A4272909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6FD-D8C4-4748-906C-38172DCF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666720"/>
            <a:ext cx="9144000" cy="5737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6488280"/>
            <a:ext cx="9144000" cy="4269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562720" y="5191200"/>
            <a:ext cx="3581280" cy="1566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flipV="1">
            <a:off x="-33120" y="6395400"/>
            <a:ext cx="7162920" cy="81000"/>
          </a:xfrm>
          <a:prstGeom prst="rect">
            <a:avLst/>
          </a:prstGeom>
          <a:solidFill>
            <a:srgbClr val="460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8358120" y="6400800"/>
            <a:ext cx="1067040" cy="76320"/>
          </a:xfrm>
          <a:prstGeom prst="rect">
            <a:avLst/>
          </a:prstGeom>
          <a:solidFill>
            <a:srgbClr val="460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5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866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B435-FF1D-4A8E-B7C9-9B7AB5F40E58}" type="slidenum">
              <a:rPr b="0" lang="zh-TW" sz="1400" spc="-1" strike="noStrike">
                <a:solidFill>
                  <a:srgbClr val="463634"/>
                </a:solidFill>
                <a:latin typeface="Times New Roman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982080" cy="6296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0" y="6389640"/>
            <a:ext cx="9982080" cy="468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0" y="6294600"/>
            <a:ext cx="9982080" cy="125280"/>
          </a:xfrm>
          <a:prstGeom prst="rect">
            <a:avLst/>
          </a:prstGeom>
          <a:solidFill>
            <a:srgbClr val="460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36E3-55D0-4EE0-B145-1A09CDCAD9B3}" type="slidenum">
              <a:rPr b="0" lang="zh-TW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7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5334120" y="4800600"/>
            <a:ext cx="2590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元智大學校長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彭宗平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pt. 4, 2005</a:t>
            </a:r>
            <a:endParaRPr b="1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00400" y="297180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全真中黑體"/>
              </a:rPr>
              <a:t>校長有約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全真中黑體"/>
              <a:ea typeface="全真中黑體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700360" y="2257560"/>
            <a:ext cx="377172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中黑體"/>
              </a:rPr>
              <a:t>2005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中黑體"/>
              </a:rPr>
              <a:t>新生家長訪校日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中黑體"/>
              <a:ea typeface="華康中黑體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UnivPhoto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546440" cy="559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95280" y="2057400"/>
            <a:ext cx="6096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33"/>
                </a:solidFill>
                <a:latin typeface="Times New Roman"/>
              </a:rPr>
              <a:t>大學教育</a:t>
            </a:r>
            <a:endParaRPr b="1" lang="en-US" sz="4000" spc="-1" strike="noStrike">
              <a:solidFill>
                <a:srgbClr val="ff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培養眼光、價值觀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道德勇氣、批判能力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95280" y="14475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專業技能的生命週期日趨縮短；學生的思考、分析與整合技術的能力比專業科目的能力更能持久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學生對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歷史文化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與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社會發展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</a:rPr>
              <a:t>的知識必須加強。這些素養將有助於他們透過新的職場生態與社會環境，找到自己的定位。</a:t>
            </a: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5" name="UnivPhoto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45464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52760" y="2133720"/>
            <a:ext cx="252072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求知慾與創造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 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通才與專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人文與科技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第二專長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語文、資訊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通識教育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</a:rPr>
              <a:t>現代大學教育之重要課題</a:t>
            </a:r>
            <a:endParaRPr b="1" lang="en-US" sz="36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28" name="UnivPhoto" descr=""/>
          <p:cNvPicPr/>
          <p:nvPr/>
        </p:nvPicPr>
        <p:blipFill>
          <a:blip r:embed="rId7"/>
          <a:stretch/>
        </p:blipFill>
        <p:spPr>
          <a:xfrm>
            <a:off x="228600" y="152280"/>
            <a:ext cx="4546440" cy="5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1143000"/>
            <a:ext cx="76201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33"/>
                </a:solidFill>
                <a:latin typeface="Times New Roman"/>
                <a:ea typeface="標楷體"/>
              </a:rPr>
              <a:t>大學生活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課堂外的學習與課堂內的教育同等重要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讀書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社團：群己關係、溝通、領導、獨立能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交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思想：眼光與品味、興趣與嗜好、</a:t>
            </a:r>
            <a:br>
              <a:rPr sz="3200"/>
            </a:b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　　　知識份子的情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0" name="UnivPhoto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5464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1219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元智之教育理念與元智人特質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178000"/>
            <a:ext cx="6705720" cy="32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教育理念</a:t>
            </a:r>
            <a:br>
              <a:rPr sz="2800"/>
            </a:b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卓越、務實、宏觀、圓融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元智人特質－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I</a:t>
            </a:r>
            <a:br>
              <a:rPr sz="28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標楷體"/>
              </a:rPr>
              <a:t>Internationalization, Information, Integration, Innovatio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元智人之能力－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E</a:t>
            </a:r>
            <a:br>
              <a:rPr sz="28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標楷體"/>
              </a:rPr>
              <a:t>English, E-Life, Ethics, Entrepreneurship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3" name="yzu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13372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元智的教育原則簡單來講就是讓學生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開  竅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5" name="yzu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133720" y="1981080"/>
            <a:ext cx="5181480" cy="33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有系統有組織之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表達能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勤樸踏實之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求學態度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鑑賞文化與藝術之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素養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國際化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之視野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spcBef>
                <a:spcPts val="1199"/>
              </a:spcBef>
              <a:spcAft>
                <a:spcPts val="400"/>
              </a:spcAft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終身學習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之能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37" name="yzu" descr=""/>
          <p:cNvPicPr/>
          <p:nvPr/>
        </p:nvPicPr>
        <p:blipFill>
          <a:blip r:embed="rId6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yzu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2666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透過競賽、執行計畫或團隊合作，</a:t>
            </a:r>
            <a:br>
              <a:rPr sz="3200"/>
            </a:b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增加學生共同討論、相互激盪之機會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644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創　意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yzu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523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美　育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2286000"/>
            <a:ext cx="3886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藝術音樂活動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競賽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社團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課程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教師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駐校藝術家音樂家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校園美化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71640" y="1916280"/>
            <a:ext cx="676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在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MIT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校園營造一種氣氛，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讓學生接受挑戰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，並成為一流人才，便是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MIT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辦學成功的不二法門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aca9c"/>
                </a:solidFill>
                <a:latin typeface="Times New Roman"/>
                <a:ea typeface="標楷體"/>
              </a:rPr>
              <a:t>        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aca9c"/>
                </a:solidFill>
                <a:latin typeface="Times New Roman"/>
                <a:ea typeface="標楷體"/>
              </a:rPr>
              <a:t>                 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aca9c"/>
                </a:solidFill>
                <a:latin typeface="Times New Roman"/>
                <a:ea typeface="標楷體"/>
              </a:rPr>
              <a:t>                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--</a:t>
            </a:r>
            <a:r>
              <a:rPr b="1" lang="en-US" sz="3200" spc="-1" strike="noStrike">
                <a:solidFill>
                  <a:srgbClr val="daca9c"/>
                </a:solidFill>
                <a:latin typeface="Times New Roman"/>
                <a:ea typeface="標楷體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Charles M. Ves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標楷體"/>
              </a:rPr>
              <a:t>(MIT</a:t>
            </a:r>
            <a:r>
              <a:rPr b="1" lang="zh-TW" sz="2400" spc="-1" strike="noStrike">
                <a:solidFill>
                  <a:srgbClr val="000066"/>
                </a:solidFill>
                <a:latin typeface="Times New Roman"/>
                <a:ea typeface="標楷體"/>
              </a:rPr>
              <a:t>前校長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5" name="yzu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281952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303b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全真中黑體"/>
              </a:rPr>
              <a:t>元智概況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303b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全真中黑體"/>
              <a:ea typeface="全真中黑體"/>
            </a:endParaRPr>
          </a:p>
        </p:txBody>
      </p:sp>
      <p:pic>
        <p:nvPicPr>
          <p:cNvPr id="95" name="UnivPhoto" descr=""/>
          <p:cNvPicPr/>
          <p:nvPr/>
        </p:nvPicPr>
        <p:blipFill>
          <a:blip r:embed="rId1"/>
          <a:stretch/>
        </p:blipFill>
        <p:spPr>
          <a:xfrm>
            <a:off x="76320" y="127080"/>
            <a:ext cx="3429000" cy="558720"/>
          </a:xfrm>
          <a:prstGeom prst="rect">
            <a:avLst/>
          </a:prstGeom>
          <a:ln w="0">
            <a:noFill/>
          </a:ln>
        </p:spPr>
      </p:pic>
      <p:pic>
        <p:nvPicPr>
          <p:cNvPr id="96" name="yzu" descr=""/>
          <p:cNvPicPr/>
          <p:nvPr/>
        </p:nvPicPr>
        <p:blipFill>
          <a:blip r:embed="rId2"/>
          <a:stretch/>
        </p:blipFill>
        <p:spPr>
          <a:xfrm>
            <a:off x="5977080" y="6081840"/>
            <a:ext cx="40194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19320" y="1752480"/>
            <a:ext cx="657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在元智校園內建構一流學術殿堂的氣氛，讓學生潛移默化，自然願意在求學與研究激發潛力，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挑戰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更高的目標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讓學生的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能力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與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精力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可以在大學校園內迸放。</a:t>
            </a:r>
            <a:r>
              <a:rPr b="1" lang="zh-TW" sz="3200" spc="-1" strike="noStrike">
                <a:solidFill>
                  <a:srgbClr val="daca9c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7" name="yzu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228600" y="9907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33"/>
                </a:solidFill>
                <a:latin typeface="Times New Roman"/>
              </a:rPr>
              <a:t>學生教育推動特色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981080"/>
            <a:ext cx="75438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通識教育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人文藝術、社會科學、自然科學、生命科學</a:t>
            </a:r>
            <a:br>
              <a:rPr sz="2800"/>
            </a:br>
            <a:r>
              <a:rPr b="1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＋思維方式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規劃</a:t>
            </a:r>
            <a:r>
              <a:rPr b="1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核心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及</a:t>
            </a:r>
            <a:r>
              <a:rPr b="1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進階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課程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大師講學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由資深教授開授大一基礎課程，及早培養學生正確之治學態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0" name="yzu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228600" y="9907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33"/>
                </a:solidFill>
                <a:latin typeface="Times New Roman"/>
              </a:rPr>
              <a:t>學生輔導推動特色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1981080"/>
            <a:ext cx="51814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雙軌導師制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生涯規劃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多元之興趣學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人生觀與價值觀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強化社團活動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組織企劃之能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團隊合作之精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社會關懷之情操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3" name="yzu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109044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990033"/>
                </a:solidFill>
                <a:latin typeface="Times New Roman"/>
              </a:rPr>
              <a:t>學生住宿</a:t>
            </a:r>
            <a:endParaRPr b="1" lang="en-US" sz="4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004840"/>
            <a:ext cx="518184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4200" indent="-484200">
              <a:lnSpc>
                <a:spcPct val="120000"/>
              </a:lnSpc>
              <a:spcBef>
                <a:spcPts val="21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學生宿舍五棟（共計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2,088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床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spcBef>
                <a:spcPts val="21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國際學舍興建中（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1,800</a:t>
            </a: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床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spcBef>
                <a:spcPts val="21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規劃推動低年級生住宿制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spcBef>
                <a:spcPts val="21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66"/>
                </a:solidFill>
                <a:latin typeface="Times New Roman"/>
                <a:ea typeface="標楷體"/>
              </a:rPr>
              <a:t>推動宿舍生活學習圈</a:t>
            </a:r>
            <a:br>
              <a:rPr sz="2800"/>
            </a:b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－熱心教授輔導生活與學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484200" indent="-484200"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6" name="yzu" descr=""/>
          <p:cNvPicPr/>
          <p:nvPr/>
        </p:nvPicPr>
        <p:blipFill>
          <a:blip r:embed="rId5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539040" y="3581280"/>
            <a:ext cx="2057400" cy="154332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58" name="DSCN0680" descr=""/>
          <p:cNvPicPr/>
          <p:nvPr/>
        </p:nvPicPr>
        <p:blipFill>
          <a:blip r:embed="rId7"/>
          <a:stretch/>
        </p:blipFill>
        <p:spPr>
          <a:xfrm>
            <a:off x="6553080" y="1600200"/>
            <a:ext cx="2057400" cy="154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7672320" y="307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463634"/>
                </a:solidFill>
                <a:latin typeface="Times New Roman"/>
                <a:ea typeface="標楷體"/>
              </a:rPr>
              <a:t>活動中心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81960" y="5118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463634"/>
                </a:solidFill>
                <a:latin typeface="Times New Roman"/>
                <a:ea typeface="標楷體"/>
              </a:rPr>
              <a:t>宿舍外觀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2438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培養元智學生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務實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且具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創意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之特質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團隊合作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之精神與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社會關懷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之情操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  <a:ea typeface="標楷體"/>
              </a:rPr>
              <a:t>期　許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3" name="yzu" descr=""/>
          <p:cNvPicPr/>
          <p:nvPr/>
        </p:nvPicPr>
        <p:blipFill>
          <a:blip r:embed="rId1"/>
          <a:stretch/>
        </p:blipFill>
        <p:spPr>
          <a:xfrm>
            <a:off x="0" y="152280"/>
            <a:ext cx="49528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29320" y="1447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歡迎加入元智家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！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971800" y="2781360"/>
            <a:ext cx="2886120" cy="3209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132520" y="1557360"/>
            <a:ext cx="2160360" cy="1422360"/>
          </a:xfrm>
          <a:prstGeom prst="cloudCallout">
            <a:avLst>
              <a:gd name="adj1" fmla="val -58597"/>
              <a:gd name="adj2" fmla="val 7098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Times New Roman"/>
                <a:ea typeface="標楷體"/>
              </a:rPr>
              <a:t>敬祝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0000"/>
                </a:solidFill>
                <a:latin typeface="Times New Roman"/>
                <a:ea typeface="標楷體"/>
              </a:rPr>
              <a:t>身體健康</a:t>
            </a:r>
            <a:br>
              <a:rPr sz="2400"/>
            </a:br>
            <a:r>
              <a:rPr b="1" lang="zh-TW" sz="2400" spc="-1" strike="noStrike">
                <a:solidFill>
                  <a:srgbClr val="cc0000"/>
                </a:solidFill>
                <a:latin typeface="Times New Roman"/>
                <a:ea typeface="標楷體"/>
              </a:rPr>
              <a:t>萬事如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67" name="UnivPhoto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5464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元智簡史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598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48320" y="2209680"/>
            <a:ext cx="3962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創辦人：徐有庠先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86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籌設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89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元智工學院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1997</a:t>
            </a:r>
            <a:r>
              <a:rPr b="1" lang="zh-TW" sz="3200" spc="-1" strike="noStrike">
                <a:solidFill>
                  <a:srgbClr val="463634"/>
                </a:solidFill>
                <a:latin typeface="Times New Roman"/>
                <a:ea typeface="標楷體"/>
              </a:rPr>
              <a:t>　元智大學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0" name="progenitor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286080" cy="16430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教學單位概況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858000" cy="433404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學生概況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598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09480" y="15238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學生總數：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9,862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（日間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7,453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，夜間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,409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88920" y="1976400"/>
          <a:ext cx="6500880" cy="42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8920" y="1976400"/>
                    <a:ext cx="650088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師資概況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59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990720" y="2127240"/>
          <a:ext cx="6489720" cy="427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127240"/>
                    <a:ext cx="64897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85800" y="144792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專任教師：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251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（不含教官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人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33"/>
                </a:solidFill>
                <a:latin typeface="Times New Roman"/>
              </a:rPr>
              <a:t>近年辦學成果</a:t>
            </a:r>
            <a:endParaRPr b="1" lang="en-US" sz="4400" spc="-1" strike="noStrike">
              <a:solidFill>
                <a:srgbClr val="9900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598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歷年私立大學校院中程校務發展計畫執行成效</a:t>
            </a:r>
            <a:br>
              <a:rPr sz="2400"/>
            </a:b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教育部審查績優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大學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94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年教育部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大學校務評鑑績優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大學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年教育部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「教訓輔三合一整合實驗方案」績優學校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及種子觀摩學校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年中國工程師學會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建教合作績優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單位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行政院「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優質英語生活環境評獎」優等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學校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年榮獲行政院第十四屆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國家品質獎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9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eer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就業情報雜誌第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327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期大學就業評鑑譽為</a:t>
            </a:r>
            <a:br>
              <a:rPr sz="2400"/>
            </a:b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最佳新興大學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年香港明報月刊譽為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</a:rPr>
              <a:t>台灣高等教育界傳奇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066680" y="2666880"/>
            <a:ext cx="685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303b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全真中黑體"/>
              </a:rPr>
              <a:t>理想的大學教育與生活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303b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全真中黑體"/>
              <a:ea typeface="全真中黑體"/>
            </a:endParaRPr>
          </a:p>
        </p:txBody>
      </p:sp>
      <p:pic>
        <p:nvPicPr>
          <p:cNvPr id="118" name="UnivPhoto" descr=""/>
          <p:cNvPicPr/>
          <p:nvPr/>
        </p:nvPicPr>
        <p:blipFill>
          <a:blip r:embed="rId1"/>
          <a:stretch/>
        </p:blipFill>
        <p:spPr>
          <a:xfrm>
            <a:off x="76320" y="127080"/>
            <a:ext cx="3429000" cy="558720"/>
          </a:xfrm>
          <a:prstGeom prst="rect">
            <a:avLst/>
          </a:prstGeom>
          <a:ln w="0">
            <a:noFill/>
          </a:ln>
        </p:spPr>
      </p:pic>
      <p:pic>
        <p:nvPicPr>
          <p:cNvPr id="119" name="yzu" descr=""/>
          <p:cNvPicPr/>
          <p:nvPr/>
        </p:nvPicPr>
        <p:blipFill>
          <a:blip r:embed="rId2"/>
          <a:stretch/>
        </p:blipFill>
        <p:spPr>
          <a:xfrm>
            <a:off x="5977080" y="6081840"/>
            <a:ext cx="40194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057400" y="2057400"/>
            <a:ext cx="6858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</a:rPr>
              <a:t>中小學</a:t>
            </a:r>
            <a:r>
              <a:rPr b="1" lang="zh-TW" sz="36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TW" sz="3600" spc="-1" strike="noStrike">
                <a:solidFill>
                  <a:srgbClr val="000066"/>
                </a:solidFill>
                <a:latin typeface="Times New Roman"/>
              </a:rPr>
              <a:t>知識的傳授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zh-TW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“教養”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33"/>
                </a:solidFill>
                <a:latin typeface="Times New Roman"/>
              </a:rPr>
              <a:t>大　學　</a:t>
            </a:r>
            <a:r>
              <a:rPr b="1" lang="zh-TW" sz="3600" spc="-1" strike="noStrike">
                <a:solidFill>
                  <a:srgbClr val="000066"/>
                </a:solidFill>
                <a:latin typeface="Times New Roman"/>
              </a:rPr>
              <a:t>創造新知識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zh-TW" sz="3600" spc="-1" strike="noStrike">
                <a:solidFill>
                  <a:srgbClr val="000066"/>
                </a:solidFill>
                <a:latin typeface="Times New Roman"/>
              </a:rPr>
              <a:t>　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“教育”</a:t>
            </a:r>
            <a:endParaRPr b="1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1" name="UnivPhoto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45464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3:58:38Z</dcterms:created>
  <dc:creator>Joyce</dc:creator>
  <dc:description/>
  <dc:language>en-US</dc:language>
  <cp:lastModifiedBy>Joyce</cp:lastModifiedBy>
  <dcterms:modified xsi:type="dcterms:W3CDTF">2005-09-04T08:12:48Z</dcterms:modified>
  <cp:revision>99</cp:revision>
  <dc:subject/>
  <dc:title>PowerPoint 簡報</dc:title>
</cp:coreProperties>
</file>