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5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1.jpeg" ContentType="image/jpeg"/>
  <Override PartName="/ppt/media/image40.jpeg" ContentType="image/jpeg"/>
  <Override PartName="/ppt/media/image13.wmf" ContentType="image/x-wmf"/>
  <Override PartName="/ppt/media/image37.jpeg" ContentType="image/jpeg"/>
  <Override PartName="/ppt/media/image33.gif" ContentType="image/gif"/>
  <Override PartName="/ppt/media/image9.jpeg" ContentType="image/jpeg"/>
  <Override PartName="/ppt/media/image32.jpeg" ContentType="image/jpeg"/>
  <Override PartName="/ppt/media/image38.jpeg" ContentType="image/jpeg"/>
  <Override PartName="/ppt/media/image31.wmf" ContentType="image/x-wmf"/>
  <Override PartName="/ppt/media/image61.jpeg" ContentType="image/jpeg"/>
  <Override PartName="/ppt/media/image78.jpeg" ContentType="image/jpeg"/>
  <Override PartName="/ppt/media/image30.jpeg" ContentType="image/jpeg"/>
  <Override PartName="/ppt/media/image18.wmf" ContentType="image/x-wmf"/>
  <Override PartName="/ppt/media/image50.jpeg" ContentType="image/jpeg"/>
  <Override PartName="/ppt/media/image10.jpeg" ContentType="image/jpeg"/>
  <Override PartName="/ppt/media/image17.wmf" ContentType="image/x-wmf"/>
  <Override PartName="/ppt/media/image43.jpeg" ContentType="image/jpeg"/>
  <Override PartName="/ppt/media/image35.png" ContentType="image/png"/>
  <Override PartName="/ppt/media/image5.png" ContentType="image/png"/>
  <Override PartName="/ppt/media/image39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87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11.png" ContentType="image/png"/>
  <Override PartName="/ppt/media/image68.jpeg" ContentType="image/jpeg"/>
  <Override PartName="/ppt/media/image70.jpeg" ContentType="image/jpeg"/>
  <Override PartName="/ppt/media/image93.jpeg" ContentType="image/jpeg"/>
  <Override PartName="/ppt/media/image91.png" ContentType="image/png"/>
  <Override PartName="/ppt/media/image12.png" ContentType="image/png"/>
  <Override PartName="/ppt/media/image95.jpeg" ContentType="image/jpeg"/>
  <Override PartName="/ppt/media/image94.jpeg" ContentType="image/jpeg"/>
  <Override PartName="/ppt/media/image20.jpeg" ContentType="image/jpeg"/>
  <Override PartName="/ppt/media/image90.jpeg" ContentType="image/jpeg"/>
  <Override PartName="/ppt/media/image29.png" ContentType="image/png"/>
  <Override PartName="/ppt/media/image26.gif" ContentType="image/gif"/>
  <Override PartName="/ppt/media/image63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89.jpeg" ContentType="image/jpeg"/>
  <Override PartName="/ppt/media/image88.jpeg" ContentType="image/jpeg"/>
  <Override PartName="/ppt/media/image69.png" ContentType="image/png"/>
  <Override PartName="/ppt/media/image67.jpeg" ContentType="image/jpeg"/>
  <Override PartName="/ppt/media/image86.png" ContentType="image/png"/>
  <Override PartName="/ppt/media/image76.jpeg" ContentType="image/jpeg"/>
  <Override PartName="/ppt/media/image49.jpeg" ContentType="image/jpeg"/>
  <Override PartName="/ppt/media/image75.jpeg" ContentType="image/jpeg"/>
  <Override PartName="/ppt/media/image71.jpeg" ContentType="image/jpeg"/>
  <Override PartName="/ppt/media/image36.jpeg" ContentType="image/jpeg"/>
  <Override PartName="/ppt/media/image73.jpeg" ContentType="image/jpeg"/>
  <Override PartName="/ppt/media/image24.png" ContentType="image/png"/>
  <Override PartName="/ppt/media/image25.jpeg" ContentType="image/jpeg"/>
  <Override PartName="/ppt/media/image84.jpeg" ContentType="image/jpeg"/>
  <Override PartName="/ppt/media/image14.wmf" ContentType="image/x-wmf"/>
  <Override PartName="/ppt/media/image58.jpeg" ContentType="image/jpeg"/>
  <Override PartName="/ppt/media/image2.png" ContentType="image/png"/>
  <Override PartName="/ppt/media/image72.jpeg" ContentType="image/jpeg"/>
  <Override PartName="/ppt/media/image92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81.jpeg" ContentType="image/jpeg"/>
  <Override PartName="/ppt/media/image22.jpeg" ContentType="image/jpeg"/>
  <Override PartName="/ppt/media/image19.png" ContentType="image/png"/>
  <Override PartName="/ppt/media/image79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08A-C380-4378-854C-17D7A9DC2B1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F03C-C393-4DA3-B3A8-A7B517E5CD7A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17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新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8219-4F97-4E47-BFEC-CE1A5E14F91D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FFD-70EB-40D5-B93E-7982CC33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0D59-D012-4970-9936-17A49194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046-BC74-4DD2-A3A4-9D2825BA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19D-C09F-4A5F-9834-D3A8088F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9838-BC8A-4C04-8CBD-5E2A2688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7BA7-8C60-48E2-A376-B9B2EFBF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4A95-ECB1-40A5-B17B-36215CA7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6332-B5E7-4F31-9925-6AE46F26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250F-ED5F-403E-BEF1-C6188E04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7F39-1320-4997-8C2E-BADBD43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555-D197-4A2A-9775-D5CE5B0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C94-78BE-434E-899B-1B3C0918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46A-F98F-4C92-8B88-289F37CB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F3F-3391-4318-B76B-D3780D9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17E7-2157-4558-A61F-B9E66CC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3D89-5163-4071-B00C-5CE0A130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0A5-8936-417B-985D-A79C3B36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320-B17B-489E-901B-F30DBAE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87B-ACB5-4F22-8064-FD2FA3A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61D-E142-4EED-9462-E5487DF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5E9-11E7-46D7-ADE3-FA953FF4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C91-1660-41D7-8014-148D7E2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EC7-8F6D-4DE1-88A5-EE8E4F9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5C2-CCF5-4DEE-B122-2083F86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6672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6488280"/>
            <a:ext cx="9144000" cy="426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562720" y="5191200"/>
            <a:ext cx="3581280" cy="156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V="1">
            <a:off x="-33120" y="6395400"/>
            <a:ext cx="7162920" cy="8100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8358120" y="6400800"/>
            <a:ext cx="1067040" cy="7632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5280-38EC-4B20-9E4C-166D64DE7DBD}" type="slidenum"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82080" cy="629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6389640"/>
            <a:ext cx="9982080" cy="46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0" y="6294600"/>
            <a:ext cx="9982080" cy="12528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EFCC-210B-418F-B6EC-DF05E0419DA9}" type="slidenum"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33.gif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39.jpeg"/><Relationship Id="rId8" Type="http://schemas.openxmlformats.org/officeDocument/2006/relationships/image" Target="../media/image40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jpeg"/><Relationship Id="rId8" Type="http://schemas.openxmlformats.org/officeDocument/2006/relationships/image" Target="../media/image62.jpe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0.jpeg"/><Relationship Id="rId3" Type="http://schemas.openxmlformats.org/officeDocument/2006/relationships/image" Target="../media/image91.pn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4120" y="480060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元智大學校長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彭宗平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c. 19, 2009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00400" y="29718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校長有約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700360" y="2257560"/>
            <a:ext cx="3771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2009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新生家長訪校日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中黑體"/>
              <a:ea typeface="華康中黑體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135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-1  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培養學生成為社會與產業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菁英人才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企業愛用本校學生排名及畢業生對元智教育滿意度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-2  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建構元智大學成為具國際聲望的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雙語大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外籍學生人數及英語授課時數比例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-3  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致力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應用導向研究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，引領產業提升與社會進步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研究總經費及學術成果發表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-4  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塑造創新、多元、和諧、永續的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優質校園環境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</a:rPr>
              <a:t>教職員生對工作及學習環境滿意度</a:t>
            </a:r>
            <a:endParaRPr b="1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0464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校務發展總目標與總指標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1341360"/>
            <a:ext cx="7920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97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「教學卓越計畫」獲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7,500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萬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，為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新申請學校最高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「教學卓越計畫」獲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1.28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億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，為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全國第二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，每師</a:t>
            </a:r>
            <a:br>
              <a:rPr sz="2400"/>
            </a:b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平均金額為名列前茅大學兩倍以上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.09.24 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教育部通過管理學院組織調整，</a:t>
            </a:r>
            <a:br>
              <a:rPr sz="2400"/>
            </a:b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為全國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第一所不分系學院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遠見雜誌「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2008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大學畢業生企業調查」，</a:t>
            </a:r>
            <a:br>
              <a:rPr sz="2400"/>
            </a:b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『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畢業生素質提昇最多學校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』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第一名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遠見雜誌「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2009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畢業生企業評價調查」，</a:t>
            </a:r>
            <a:br>
              <a:rPr sz="2400"/>
            </a:b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『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感受最積極促銷畢業生求職學校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』</a:t>
            </a:r>
            <a:br>
              <a:rPr sz="2400"/>
            </a:b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第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3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名</a:t>
            </a:r>
            <a:r>
              <a:rPr b="1" lang="zh-TW" sz="20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（僅次於台大、成大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40464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近期重要成果</a:t>
            </a:r>
            <a:r>
              <a:rPr b="1" lang="zh-TW" sz="36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菁英人才培育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7164360" y="3068640"/>
            <a:ext cx="1332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1280" y="1916280"/>
            <a:ext cx="3240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英語學程：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0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11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0464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近期重要成果</a:t>
            </a:r>
            <a:r>
              <a:rPr b="1" lang="zh-TW" sz="36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雙語大學建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211640" y="1413000"/>
            <a:ext cx="4681440" cy="2782800"/>
            <a:chOff x="4211640" y="1413000"/>
            <a:chExt cx="4681440" cy="2782800"/>
          </a:xfrm>
        </p:grpSpPr>
        <p:sp>
          <p:nvSpPr>
            <p:cNvPr id="148" name=""/>
            <p:cNvSpPr/>
            <p:nvPr/>
          </p:nvSpPr>
          <p:spPr>
            <a:xfrm>
              <a:off x="4211640" y="1413000"/>
              <a:ext cx="4681440" cy="2782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463634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1720" y="14288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英語授課時數比例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76920" y="1922400"/>
              <a:ext cx="305424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329076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76920" y="294480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76920" y="260676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6920" y="226044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76920" y="192240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76920" y="1922400"/>
              <a:ext cx="3054240" cy="1706760"/>
            </a:xfrm>
            <a:prstGeom prst="rect">
              <a:avLst/>
            </a:prstGeom>
            <a:noFill/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13480" y="2606760"/>
              <a:ext cx="179280" cy="102240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29440" y="2433600"/>
              <a:ext cx="177840" cy="119556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37480" y="2260440"/>
              <a:ext cx="177840" cy="136872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51640" y="1922400"/>
              <a:ext cx="179640" cy="170676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4720" y="2692440"/>
              <a:ext cx="171360" cy="936720"/>
            </a:xfrm>
            <a:prstGeom prst="rect">
              <a:avLst/>
            </a:prstGeom>
            <a:solidFill>
              <a:srgbClr val="ffcc00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2760" y="2470320"/>
              <a:ext cx="177840" cy="1158840"/>
            </a:xfrm>
            <a:prstGeom prst="rect">
              <a:avLst/>
            </a:prstGeom>
            <a:solidFill>
              <a:srgbClr val="ffcc00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76920" y="1922400"/>
              <a:ext cx="0" cy="1706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920" y="362916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76920" y="329076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76920" y="294480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260676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76920" y="226044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76920" y="1922400"/>
              <a:ext cx="5076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76920" y="3629160"/>
              <a:ext cx="3054240" cy="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87692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48496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10092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70860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32312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931160" y="3578040"/>
              <a:ext cx="0" cy="50760"/>
            </a:xfrm>
            <a:prstGeom prst="line">
              <a:avLst/>
            </a:prstGeom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8520" y="244800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7.5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72720" y="26208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63634"/>
                  </a:solidFill>
                  <a:latin typeface="Times New Roman"/>
                </a:rPr>
                <a:t>50%</a:t>
              </a:r>
              <a:endParaRPr b="0" lang="en-US" sz="15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79080" y="27655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63634"/>
                  </a:solidFill>
                  <a:latin typeface="Times New Roman"/>
                </a:rPr>
                <a:t>40%</a:t>
              </a:r>
              <a:endParaRPr b="0" lang="en-US" sz="15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63120" y="285912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63634"/>
                  </a:solidFill>
                  <a:latin typeface="Times New Roman"/>
                </a:rPr>
                <a:t>35%</a:t>
              </a:r>
              <a:endParaRPr b="0" lang="en-US" sz="15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3000" y="299556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463634"/>
                  </a:solidFill>
                  <a:latin typeface="Times New Roman"/>
                </a:rPr>
                <a:t>30%</a:t>
              </a:r>
              <a:endParaRPr b="0" lang="en-US" sz="15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04480" y="2246400"/>
              <a:ext cx="58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33.94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89920" y="353520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03880" y="319716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1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03880" y="285120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2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03880" y="251316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3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03880" y="216864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4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03880" y="1830240"/>
              <a:ext cx="35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50%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97600" y="37720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97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05640" y="37720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98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0160" y="3772080"/>
              <a:ext cx="18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99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84640" y="37720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2680" y="3772080"/>
              <a:ext cx="270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3634"/>
                  </a:solidFill>
                  <a:latin typeface="Times New Roman"/>
                </a:rPr>
                <a:t>101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58800" y="375768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200" spc="-1" strike="noStrike">
                  <a:solidFill>
                    <a:srgbClr val="463634"/>
                  </a:solidFill>
                  <a:latin typeface="標楷體"/>
                  <a:ea typeface="標楷體"/>
                </a:rPr>
                <a:t>（學年）</a:t>
              </a:r>
              <a:endParaRPr b="0" lang="en-US" sz="1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4480" y="2435400"/>
              <a:ext cx="785520" cy="517320"/>
            </a:xfrm>
            <a:prstGeom prst="rect">
              <a:avLst/>
            </a:prstGeom>
            <a:noFill/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91360" y="2476440"/>
              <a:ext cx="106560" cy="10800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54880" y="245592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463634"/>
                  </a:solidFill>
                  <a:latin typeface="標楷體"/>
                  <a:ea typeface="標楷體"/>
                </a:rPr>
                <a:t>目標值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91360" y="2736720"/>
              <a:ext cx="106560" cy="108000"/>
            </a:xfrm>
            <a:prstGeom prst="rect">
              <a:avLst/>
            </a:prstGeom>
            <a:solidFill>
              <a:srgbClr val="ffcc00"/>
            </a:solidFill>
            <a:ln w="792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54880" y="2714760"/>
              <a:ext cx="32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463634"/>
                  </a:solidFill>
                  <a:latin typeface="標楷體"/>
                  <a:ea typeface="標楷體"/>
                </a:rPr>
                <a:t>實際值</a:t>
              </a:r>
              <a:endParaRPr b="0" lang="en-US" sz="1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19040" y="3006720"/>
            <a:ext cx="4728960" cy="3168360"/>
            <a:chOff x="419040" y="3006720"/>
            <a:chExt cx="4728960" cy="3168360"/>
          </a:xfrm>
        </p:grpSpPr>
        <p:sp>
          <p:nvSpPr>
            <p:cNvPr id="201" name=""/>
            <p:cNvSpPr/>
            <p:nvPr/>
          </p:nvSpPr>
          <p:spPr>
            <a:xfrm>
              <a:off x="419040" y="3008160"/>
              <a:ext cx="4579920" cy="31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463634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65520" y="30067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ff0000"/>
                  </a:solidFill>
                  <a:latin typeface="Times New Roman"/>
                  <a:ea typeface="標楷體"/>
                </a:rPr>
                <a:t>外籍生人數及比率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aphicFrame>
          <p:nvGraphicFramePr>
            <p:cNvPr id="203" name=""/>
            <p:cNvGraphicFramePr/>
            <p:nvPr/>
          </p:nvGraphicFramePr>
          <p:xfrm>
            <a:off x="439560" y="3008160"/>
            <a:ext cx="4708440" cy="31669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9560" y="3008160"/>
                      <a:ext cx="4708440" cy="316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雙語大學建構</a:t>
            </a:r>
            <a:r>
              <a:rPr b="1" lang="zh-TW" sz="3600" spc="-1" strike="noStrike">
                <a:solidFill>
                  <a:srgbClr val="a50021"/>
                </a:solidFill>
                <a:latin typeface="Times New Roman"/>
              </a:rPr>
              <a:t>－具體方案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50520" y="907920"/>
            <a:ext cx="8177760" cy="5269680"/>
            <a:chOff x="650520" y="907920"/>
            <a:chExt cx="8177760" cy="5269680"/>
          </a:xfrm>
        </p:grpSpPr>
        <p:grpSp>
          <p:nvGrpSpPr>
            <p:cNvPr id="207" name=""/>
            <p:cNvGrpSpPr/>
            <p:nvPr/>
          </p:nvGrpSpPr>
          <p:grpSpPr>
            <a:xfrm>
              <a:off x="2031840" y="2203200"/>
              <a:ext cx="3564000" cy="2383560"/>
              <a:chOff x="2031840" y="2203200"/>
              <a:chExt cx="3564000" cy="2383560"/>
            </a:xfrm>
          </p:grpSpPr>
          <p:pic>
            <p:nvPicPr>
              <p:cNvPr id="208" name="Picture 2" descr="G:\未命名2.bmp"/>
              <p:cNvPicPr/>
              <p:nvPr/>
            </p:nvPicPr>
            <p:blipFill>
              <a:blip r:embed="rId1">
                <a:lum bright="30000"/>
              </a:blip>
              <a:stretch/>
            </p:blipFill>
            <p:spPr>
              <a:xfrm rot="327000">
                <a:off x="2635200" y="2350800"/>
                <a:ext cx="2317680" cy="17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3363840" y="2203200"/>
                <a:ext cx="59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1-1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49560" y="246348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1-2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47840" y="2490480"/>
                <a:ext cx="57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1-3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592440" y="2747880"/>
                <a:ext cx="527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1-4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76720" y="327780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2-2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08360" y="306828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2-1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624200" y="357480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2-4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156200" y="3282840"/>
                <a:ext cx="64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2-3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031840" y="349848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3-3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500200" y="3282840"/>
                <a:ext cx="662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3-1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32200" y="3427200"/>
                <a:ext cx="576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3-2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87480" y="3909600"/>
                <a:ext cx="648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3-4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25760" y="427968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4-4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51120" y="3724200"/>
                <a:ext cx="628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4-1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8440" y="413208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4-3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36920" y="3914640"/>
                <a:ext cx="51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4-2</a:t>
                </a:r>
                <a:endParaRPr b="0" lang="en-US" sz="1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3808440" y="2212560"/>
                <a:ext cx="9360" cy="270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3566880" y="2473200"/>
                <a:ext cx="247320" cy="260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17800" y="2463480"/>
                <a:ext cx="88920" cy="333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22840" y="2476080"/>
                <a:ext cx="187200" cy="1843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239560" y="3771720"/>
                <a:ext cx="376200" cy="38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2616120" y="3504960"/>
                <a:ext cx="244440" cy="264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593800" y="3723840"/>
                <a:ext cx="455760" cy="52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14680" y="3769920"/>
                <a:ext cx="428400" cy="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794120" y="3463200"/>
                <a:ext cx="330480" cy="42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4606560" y="3277800"/>
                <a:ext cx="220680" cy="22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489560" y="3504960"/>
                <a:ext cx="328320" cy="36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587480" y="3501720"/>
                <a:ext cx="236520" cy="243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40080" y="4093920"/>
                <a:ext cx="95400" cy="29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3924360" y="4038480"/>
                <a:ext cx="312480" cy="55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4152960" y="3769560"/>
                <a:ext cx="93600" cy="335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4240080" y="3871440"/>
                <a:ext cx="225360" cy="223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11480" y="3930480"/>
                <a:ext cx="11728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672160" y="907920"/>
              <a:ext cx="3156120" cy="3594960"/>
            </a:xfrm>
            <a:noFill/>
            <a:ln w="9360">
              <a:solidFill>
                <a:srgbClr val="46363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入學英文成績門檻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新生英語營隊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提升學生國際文化經驗</a:t>
              </a:r>
              <a:br>
                <a:rPr sz="20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English Corner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、</a:t>
              </a: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Writing Center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英語自學中心</a:t>
              </a:r>
              <a:endParaRPr b="0" lang="en-US" sz="1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英語能力檢測</a:t>
              </a:r>
              <a:br>
                <a:rPr sz="20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畢業生通過全民英檢中級複試</a:t>
              </a:r>
              <a:endParaRPr b="0" lang="en-US" sz="1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提升英語授課比例與結構化</a:t>
              </a:r>
              <a:br>
                <a:rPr sz="20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英語學程、英語專班</a:t>
              </a:r>
              <a:endParaRPr b="0" lang="en-US" sz="1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新聘教師英語授課能力審查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提升教師國際學術經驗</a:t>
              </a:r>
              <a:br>
                <a:rPr sz="20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教師赴國外觀摩教學</a:t>
              </a:r>
              <a:br>
                <a:rPr sz="16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助理教授出國研修</a:t>
              </a:r>
              <a:endParaRPr b="0" lang="en-US" sz="16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58960" y="4652640"/>
              <a:ext cx="1550160" cy="1524960"/>
            </a:xfrm>
            <a:noFill/>
            <a:ln w="9360">
              <a:solidFill>
                <a:srgbClr val="46363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國際化前進專案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外籍生、外籍博士生獎學金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外籍生校園適應協助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延攬特聘教授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ff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ff0066"/>
                  </a:solidFill>
                  <a:latin typeface="Times New Roman"/>
                  <a:ea typeface="標楷體"/>
                </a:rPr>
                <a:t>延聘外籍教師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0520" y="1085760"/>
              <a:ext cx="1397880" cy="2134800"/>
            </a:xfrm>
            <a:noFill/>
            <a:ln w="9360">
              <a:solidFill>
                <a:srgbClr val="46363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補助學生國際交流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博士生海外研究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陸生來台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MIT</a:t>
              </a: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合作課程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拓展教師國際交流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指導教授海外研究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領導團隊參訪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8720" y="4292280"/>
              <a:ext cx="2007360" cy="1768320"/>
            </a:xfrm>
            <a:noFill/>
            <a:ln w="9360">
              <a:solidFill>
                <a:srgbClr val="463634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雙語大學環境建置工作小組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改善校園雙語標示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國際化行政事務推動</a:t>
              </a:r>
              <a:br>
                <a:rPr sz="2000"/>
              </a:br>
              <a:r>
                <a:rPr b="1" lang="en-US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- </a:t>
              </a:r>
              <a:r>
                <a:rPr b="1" lang="zh-TW" sz="16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正式成立國際暨兩岸事務室</a:t>
              </a:r>
              <a:endParaRPr b="0" lang="en-US" sz="16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職員國際化觀念形塑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77840" indent="-177840">
                <a:buClr>
                  <a:srgbClr val="463634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463634"/>
                  </a:solidFill>
                  <a:latin typeface="Times New Roman"/>
                  <a:ea typeface="標楷體"/>
                </a:rPr>
                <a:t>網頁更新檢核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4360" y="1484280"/>
            <a:ext cx="7632720" cy="46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遠東有庠通訊大樓（元智七館）獲「</a:t>
            </a: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2008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臺灣建築獎」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首獎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.05 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獲選教育部「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綠色大學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示範學校」（全國僅</a:t>
            </a: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13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所）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.05 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獲選教育部「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溫室氣體減量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示範大專院校」，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全國唯一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.10 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獲教育部「</a:t>
            </a:r>
            <a:r>
              <a:rPr b="1" lang="en-US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度大學院校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校園環境管理</a:t>
            </a:r>
            <a:r>
              <a:rPr b="1" lang="zh-TW" sz="2600" spc="-1" strike="noStrike">
                <a:solidFill>
                  <a:srgbClr val="463634"/>
                </a:solidFill>
                <a:latin typeface="Times New Roman"/>
                <a:ea typeface="標楷體"/>
              </a:rPr>
              <a:t>現況調查暨績效評鑑」</a:t>
            </a:r>
            <a:r>
              <a:rPr b="1" lang="zh-TW" sz="2600" spc="-1" strike="noStrike">
                <a:solidFill>
                  <a:srgbClr val="ff0066"/>
                </a:solidFill>
                <a:latin typeface="Times New Roman"/>
                <a:ea typeface="標楷體"/>
              </a:rPr>
              <a:t>唯一特優</a:t>
            </a:r>
            <a:endParaRPr b="0" lang="en-US" sz="2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40464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近期重要成果</a:t>
            </a:r>
            <a:r>
              <a:rPr b="1" lang="zh-TW" sz="36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優質校園環境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962160" y="3525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優質環境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975600">
            <a:off x="1310760" y="2303640"/>
            <a:ext cx="6759720" cy="3208320"/>
          </a:xfrm>
          <a:prstGeom prst="ellipse">
            <a:avLst/>
          </a:prstGeom>
          <a:noFill/>
          <a:ln w="507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975600">
            <a:off x="1311120" y="2196720"/>
            <a:ext cx="6759720" cy="3218040"/>
          </a:xfrm>
          <a:prstGeom prst="ellipse">
            <a:avLst/>
          </a:pr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10160" y="1379520"/>
            <a:ext cx="2131920" cy="154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4678200"/>
            <a:ext cx="2133720" cy="1467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35000" y="1197000"/>
            <a:ext cx="2132280" cy="15462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32720" y="3220920"/>
            <a:ext cx="2133360" cy="1467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18900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校園重大建設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009880" y="4219560"/>
            <a:ext cx="2201760" cy="1467000"/>
            <a:chOff x="2009880" y="4219560"/>
            <a:chExt cx="2201760" cy="1467000"/>
          </a:xfrm>
        </p:grpSpPr>
        <p:sp>
          <p:nvSpPr>
            <p:cNvPr id="257" name=""/>
            <p:cNvSpPr/>
            <p:nvPr/>
          </p:nvSpPr>
          <p:spPr>
            <a:xfrm>
              <a:off x="2044800" y="4219560"/>
              <a:ext cx="2133360" cy="1467000"/>
            </a:xfrm>
            <a:prstGeom prst="ellipse">
              <a:avLst/>
            </a:prstGeom>
            <a:gradFill rotWithShape="0">
              <a:gsLst>
                <a:gs pos="0">
                  <a:srgbClr val="fef0b8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09880" y="4565880"/>
              <a:ext cx="2201760" cy="78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8000"/>
                  </a:solidFill>
                  <a:latin typeface="Times New Roman"/>
                  <a:ea typeface="標楷體"/>
                </a:rPr>
                <a:t>有庠紀念館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000" spc="-1" strike="noStrike">
                  <a:solidFill>
                    <a:srgbClr val="008000"/>
                  </a:solidFill>
                  <a:latin typeface="Times New Roman"/>
                  <a:ea typeface="標楷體"/>
                </a:rPr>
                <a:t>（規劃中）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06280" y="2660760"/>
            <a:ext cx="2133720" cy="1466640"/>
            <a:chOff x="206280" y="2660760"/>
            <a:chExt cx="2133720" cy="1466640"/>
          </a:xfrm>
        </p:grpSpPr>
        <p:sp>
          <p:nvSpPr>
            <p:cNvPr id="260" name=""/>
            <p:cNvSpPr/>
            <p:nvPr/>
          </p:nvSpPr>
          <p:spPr>
            <a:xfrm>
              <a:off x="206280" y="2660760"/>
              <a:ext cx="213372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4440" y="298296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內壢校地</a:t>
              </a:r>
              <a:br>
                <a:rPr sz="2400"/>
              </a:br>
              <a:r>
                <a:rPr b="1" lang="zh-TW" sz="2400" spc="-1" strike="noStrike">
                  <a:solidFill>
                    <a:srgbClr val="006600"/>
                  </a:solidFill>
                  <a:latin typeface="Times New Roman"/>
                  <a:ea typeface="標楷體"/>
                </a:rPr>
                <a:t>購置計畫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348000" y="2816280"/>
            <a:ext cx="1728720" cy="549000"/>
          </a:xfrm>
          <a:noFill/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圖書館擴建</a:t>
            </a:r>
            <a:br>
              <a:rPr sz="1800"/>
            </a:b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（</a:t>
            </a:r>
            <a:r>
              <a:rPr b="1" lang="en-US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95</a:t>
            </a: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83280" y="2960640"/>
            <a:ext cx="1657440" cy="549000"/>
          </a:xfrm>
          <a:noFill/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健康休閒中心</a:t>
            </a:r>
            <a:br>
              <a:rPr sz="1800"/>
            </a:b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（</a:t>
            </a:r>
            <a:r>
              <a:rPr b="1" lang="en-US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96</a:t>
            </a: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01080" y="4761000"/>
            <a:ext cx="1512720" cy="549000"/>
          </a:xfrm>
          <a:noFill/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元智七館</a:t>
            </a:r>
            <a:br>
              <a:rPr sz="1800"/>
            </a:b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（</a:t>
            </a:r>
            <a:r>
              <a:rPr b="1" lang="en-US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97</a:t>
            </a: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43280" y="5805360"/>
            <a:ext cx="1431720" cy="549000"/>
          </a:xfrm>
          <a:noFill/>
          <a:ln w="158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學生第三宿舍</a:t>
            </a:r>
            <a:br>
              <a:rPr sz="1800"/>
            </a:b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（</a:t>
            </a:r>
            <a:r>
              <a:rPr b="1" lang="en-US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98</a:t>
            </a:r>
            <a:r>
              <a:rPr b="1" lang="zh-TW" sz="1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年）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749600" y="266688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元智的第十名理論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及其實踐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Times New Roman"/>
                <a:ea typeface="標楷體"/>
              </a:rPr>
              <a:t>美國大學，跟上時代步伐了嗎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1628640"/>
            <a:ext cx="763272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比起半世紀前，今天大學的建築、設備、各類</a:t>
            </a:r>
            <a:br>
              <a:rPr sz="2400"/>
            </a:b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新課程都明顯增加。但</a:t>
            </a:r>
            <a:r>
              <a:rPr b="1" lang="en-US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…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問題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1 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：大學的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教學品質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改善了嗎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問題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2 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：學生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學到更多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了嗎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問題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3 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：學生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寫作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外語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閱讀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和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分析問題</a:t>
            </a:r>
            <a:br>
              <a:rPr sz="2400"/>
            </a:b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　　　　的能力進步了嗎？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問題 </a:t>
            </a:r>
            <a:r>
              <a:rPr b="1" lang="en-US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4 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：學生的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道德推理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公民責任感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及</a:t>
            </a:r>
            <a:br>
              <a:rPr sz="2400"/>
            </a:b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　　　　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文化包容度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提升了嗎？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77080" y="3645000"/>
            <a:ext cx="1822320" cy="2762280"/>
          </a:xfrm>
          <a:prstGeom prst="rect">
            <a:avLst/>
          </a:prstGeom>
          <a:ln w="324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7562880" y="1844640"/>
            <a:ext cx="1065240" cy="1596960"/>
          </a:xfrm>
          <a:prstGeom prst="rect">
            <a:avLst/>
          </a:prstGeom>
          <a:ln w="324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28720" y="1628640"/>
            <a:ext cx="75596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生從大學帶走什麼樣的知識和心智習慣，較少取決於課程內容，而是取決於</a:t>
            </a:r>
            <a:r>
              <a:rPr b="1" lang="zh-TW" sz="2400" spc="-1" strike="noStrike">
                <a:solidFill>
                  <a:srgbClr val="ff0066"/>
                </a:solidFill>
                <a:latin typeface="標楷體"/>
                <a:ea typeface="標楷體"/>
              </a:rPr>
              <a:t>教學品質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課程內容多，不代表學生學得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教學品質佳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，學生的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興趣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價值觀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或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認知能力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，會保</a:t>
            </a:r>
            <a:br>
              <a:rPr sz="2400"/>
            </a:b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　留得較長久；那些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經由自己的思考努力所獲得的觀念</a:t>
            </a:r>
            <a:br>
              <a:rPr sz="2400"/>
            </a:b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　或知識，也保留得較久</a:t>
            </a:r>
            <a:r>
              <a:rPr b="1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。</a:t>
            </a:r>
            <a:r>
              <a:rPr b="1" lang="zh-TW" sz="2400" spc="-1" strike="noStrike">
                <a:solidFill>
                  <a:srgbClr val="008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實際上，學生的需要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  <a:ea typeface="標楷體"/>
              </a:rPr>
              <a:t>…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522936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211560" y="1844640"/>
            <a:ext cx="2520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求知慾與創造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通才與專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人文與科技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第二專長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語文、資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463634"/>
                </a:solidFill>
                <a:latin typeface="標楷體"/>
                <a:ea typeface="標楷體"/>
              </a:rPr>
              <a:t>通識教育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Times New Roman"/>
              </a:rPr>
              <a:t>現代大學教育之重要課題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24080" y="28195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元智概況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042560" y="1085760"/>
            <a:ext cx="6985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專業技能的生命週期日趨縮短；學生的</a:t>
            </a:r>
            <a:br>
              <a:rPr sz="2800"/>
            </a:b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思考、分析與整合技術的能力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比專業科</a:t>
            </a:r>
            <a:br>
              <a:rPr sz="2800"/>
            </a:b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目的能力更能持久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學生對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歷史文化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與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</a:rPr>
              <a:t>社會發展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的知識必須</a:t>
            </a:r>
            <a:br>
              <a:rPr sz="2800"/>
            </a:b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加強。這些素養將有助於他們透過新的</a:t>
            </a:r>
            <a:br>
              <a:rPr sz="2800"/>
            </a:br>
            <a:r>
              <a:rPr b="1" lang="zh-TW" sz="2800" spc="-1" strike="noStrike">
                <a:solidFill>
                  <a:srgbClr val="463634"/>
                </a:solidFill>
                <a:latin typeface="Times New Roman"/>
              </a:rPr>
              <a:t>職場生態與社會環境，找到自己的定位。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--</a:t>
            </a:r>
            <a:r>
              <a:rPr b="1" i="1" lang="en-US" sz="2000" spc="-1" strike="noStrike">
                <a:solidFill>
                  <a:srgbClr val="463634"/>
                </a:solidFill>
                <a:latin typeface="Times New Roman"/>
              </a:rPr>
              <a:t> Donald Kennedy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63634"/>
                </a:solidFill>
                <a:latin typeface="Times New Roman"/>
              </a:rPr>
              <a:t>（史丹佛大學前校長）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826920" y="1695600"/>
            <a:ext cx="76201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課堂外的學習與課堂內的教育同等重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讀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社團：群己關係、溝通、領導、獨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交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思想：眼光與品味、興趣與嗜好、</a:t>
            </a:r>
            <a:br>
              <a:rPr sz="3200"/>
            </a:b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　　知識份子的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大學生活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2133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元智的教育原則簡單來講就是讓學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Times New Roman"/>
                <a:ea typeface="標楷體"/>
              </a:rPr>
              <a:t>開  竅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2133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Times New Roman"/>
                <a:ea typeface="標楷體"/>
              </a:rPr>
              <a:t>元智的教育目標簡單來講就是給學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最大加值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24000" y="1916280"/>
            <a:ext cx="518184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有系統有組織之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表達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勤樸踏實之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求學態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鑑賞文化與藝術之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素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國際化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之視野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終身學習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42800" y="1052640"/>
          <a:ext cx="8352000" cy="5126040"/>
        </p:xfrm>
        <a:graphic>
          <a:graphicData uri="http://schemas.openxmlformats.org/drawingml/2006/table">
            <a:tbl>
              <a:tblPr/>
              <a:tblGrid>
                <a:gridCol w="641520"/>
                <a:gridCol w="631800"/>
                <a:gridCol w="707868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「經典五十」閱讀計畫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類別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點數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經典名稱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>
                        <a:alpha val="50000"/>
                      </a:srgbClr>
                    </a:solidFill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0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論語、孟子、易經、道德經、莊子、傳習錄、新約聖經、舊約聖經、六祖壇經、金剛經、西方的沒落、可蘭經、柏拉圖對話錄（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3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）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</a:tr>
              <a:tr h="82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B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孫子兵法、史記、紅樓夢、水滸傳、西遊記、三國演義、浮士德、神曲、戰爭與和平、藝術的故事、夢的解析、民約論、資本論、君王論、國富論、人口論、昆蟲史、相對論入門、物種起源、湖濱散記、未央歌（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1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）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</a:tr>
              <a:tr h="20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C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.5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唐詩、西廂記、封神演義、曾文正公家書、飄、老人與海、唐吉訶德、史懷哲傳、異鄉人、源氏物語、齊瓦哥醫生、 莎士比亞戲劇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Ι)-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羅密歐與茱莉葉、 莎士比亞戲劇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Ⅱ)-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哈姆雷特、 莎士比亞戲劇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Ⅲ)-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馬克白、 莎士比亞戲劇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Ⅳ)-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暴風雨、查拉圖斯特拉如是說、美麗新世界、一九八四、時間簡史、費曼的六堂物理課、電學之父法拉第的故事、雙螺旋、從亞里斯多德以後：古希臘到十九世紀的科學簡史、湯普金的異想世界：近代物理探索、在費曼之前：二十世紀的科學簡史、量子的故事、胡桃裡的宇宙、宇宙宇宙、基地三部曲（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9</a:t>
                      </a:r>
                      <a:r>
                        <a:rPr b="1" lang="zh-TW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本）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c1ff">
                        <a:alpha val="50000"/>
                      </a:srgbClr>
                    </a:solidFill>
                  </a:tcPr>
                </a:tc>
              </a:tr>
              <a:tr h="824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193680" indent="-193680">
                        <a:buClr>
                          <a:srgbClr val="0066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各院系所可視需要，酌予增修書單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193680" indent="-193680">
                        <a:buClr>
                          <a:srgbClr val="0066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經認證教師審查通過始得積點，目前認證師資群共計</a:t>
                      </a: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21</a:t>
                      </a:r>
                      <a:r>
                        <a:rPr b="1" lang="zh-TW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位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 marL="193680" indent="-193680">
                        <a:buClr>
                          <a:srgbClr val="006600"/>
                        </a:buClr>
                        <a:buSzPct val="6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大學四年內積滿</a:t>
                      </a: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50</a:t>
                      </a:r>
                      <a:r>
                        <a:rPr b="1" lang="zh-TW" sz="1600" spc="-1" strike="noStrike">
                          <a:solidFill>
                            <a:srgbClr val="006600"/>
                          </a:solidFill>
                          <a:latin typeface="Times New Roman"/>
                          <a:ea typeface="標楷體"/>
                        </a:rPr>
                        <a:t>點，獲「經典五十」課程二學分，為畢業要件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經典教育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17440" y="417600"/>
            <a:ext cx="8713800" cy="5964120"/>
          </a:xfrm>
          <a:prstGeom prst="rect">
            <a:avLst/>
          </a:prstGeom>
          <a:ln w="3240">
            <a:solidFill>
              <a:srgbClr val="56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90" name=""/>
          <p:cNvSpPr/>
          <p:nvPr/>
        </p:nvSpPr>
        <p:spPr>
          <a:xfrm>
            <a:off x="5076720" y="1413000"/>
            <a:ext cx="2305080" cy="288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492360" y="353880"/>
          <a:ext cx="4824720" cy="9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353880"/>
                    <a:ext cx="4824720" cy="91620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經典專區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39120" y="1052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00"/>
                </a:solidFill>
                <a:latin typeface="Times New Roman"/>
                <a:ea typeface="華康粗黑體"/>
              </a:rPr>
              <a:t>圖書館專區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4520" y="55389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00"/>
                </a:solidFill>
                <a:latin typeface="Times New Roman"/>
                <a:ea typeface="華康粗黑體"/>
              </a:rPr>
              <a:t>敦煌書局</a:t>
            </a:r>
            <a:br>
              <a:rPr sz="1800"/>
            </a:br>
            <a:r>
              <a:rPr b="0" lang="zh-TW" sz="1800" spc="-1" strike="noStrike">
                <a:solidFill>
                  <a:srgbClr val="006600"/>
                </a:solidFill>
                <a:latin typeface="Times New Roman"/>
                <a:ea typeface="華康粗黑體"/>
              </a:rPr>
              <a:t>元智店專區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840120" y="1415880"/>
            <a:ext cx="4797360" cy="35974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036960" cy="2028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714680" y="3789360"/>
            <a:ext cx="1725480" cy="22986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創意週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55280" y="1280880"/>
            <a:ext cx="38847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創意競賽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系院創意傳統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創意大師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創新創意創業教育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5"/>
          <a:stretch/>
        </p:blipFill>
        <p:spPr>
          <a:xfrm>
            <a:off x="4284720" y="1641600"/>
            <a:ext cx="1760400" cy="2016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900000" y="3152880"/>
            <a:ext cx="2262240" cy="16524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2124000" y="4506840"/>
            <a:ext cx="2448000" cy="1670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8"/>
          <a:stretch/>
        </p:blipFill>
        <p:spPr>
          <a:xfrm>
            <a:off x="6242040" y="1197000"/>
            <a:ext cx="2546280" cy="18082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05" name="" descr=""/>
          <p:cNvPicPr/>
          <p:nvPr/>
        </p:nvPicPr>
        <p:blipFill>
          <a:blip r:embed="rId9"/>
          <a:stretch/>
        </p:blipFill>
        <p:spPr>
          <a:xfrm>
            <a:off x="5416560" y="3152880"/>
            <a:ext cx="3371760" cy="16272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06" name="" descr=""/>
          <p:cNvPicPr/>
          <p:nvPr/>
        </p:nvPicPr>
        <p:blipFill>
          <a:blip r:embed="rId10"/>
          <a:stretch/>
        </p:blipFill>
        <p:spPr>
          <a:xfrm>
            <a:off x="4789440" y="4943520"/>
            <a:ext cx="3998880" cy="12193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66672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06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新世紀領袖培育計畫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33360"/>
            <a:ext cx="5038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培育國際觀、創意、領導、關懷兼備之活力領袖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9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學年起實施，迄今累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7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學員多元化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-28008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6600"/>
                </a:solidFill>
                <a:latin typeface="Times New Roman"/>
              </a:rPr>
              <a:t>新生、在校生</a:t>
            </a:r>
            <a:endParaRPr b="1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lvl="1" marL="727920" indent="-28008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6600"/>
                </a:solidFill>
                <a:latin typeface="Times New Roman"/>
              </a:rPr>
              <a:t>課業、社團、社會服務</a:t>
            </a:r>
            <a:endParaRPr b="1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培育主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727920" indent="-28008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6600"/>
                </a:solidFill>
                <a:latin typeface="Times New Roman"/>
              </a:rPr>
              <a:t>創新創意</a:t>
            </a:r>
            <a:endParaRPr b="1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lvl="1" marL="727920" indent="-28008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6600"/>
                </a:solidFill>
                <a:latin typeface="Times New Roman"/>
              </a:rPr>
              <a:t>國際視野與志工服務</a:t>
            </a:r>
            <a:endParaRPr b="1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lvl="1" marL="727920" indent="-28008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6600"/>
                </a:solidFill>
                <a:latin typeface="Times New Roman"/>
              </a:rPr>
              <a:t>領袖鍛鍊</a:t>
            </a:r>
            <a:endParaRPr b="1" lang="en-US" sz="26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專設導師群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6012000" y="3701880"/>
            <a:ext cx="2658960" cy="1994040"/>
          </a:xfrm>
          <a:prstGeom prst="rect">
            <a:avLst/>
          </a:prstGeom>
          <a:ln w="936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1" name=""/>
          <p:cNvSpPr/>
          <p:nvPr/>
        </p:nvSpPr>
        <p:spPr>
          <a:xfrm>
            <a:off x="7208280" y="573408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Times New Roman"/>
              </a:rPr>
              <a:t>國際扶輪青年領袖獎</a:t>
            </a:r>
            <a:br>
              <a:rPr sz="1400"/>
            </a:br>
            <a:r>
              <a:rPr b="1" lang="zh-TW" sz="1400" spc="-1" strike="noStrike">
                <a:solidFill>
                  <a:srgbClr val="800000"/>
                </a:solidFill>
                <a:latin typeface="Times New Roman"/>
              </a:rPr>
              <a:t>－志工服務成果觀摩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8"/>
          <a:stretch/>
        </p:blipFill>
        <p:spPr>
          <a:xfrm>
            <a:off x="6076800" y="1398600"/>
            <a:ext cx="2594160" cy="1782720"/>
          </a:xfrm>
          <a:prstGeom prst="rect">
            <a:avLst/>
          </a:prstGeom>
          <a:ln w="936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13" name=""/>
          <p:cNvSpPr/>
          <p:nvPr/>
        </p:nvSpPr>
        <p:spPr>
          <a:xfrm>
            <a:off x="7492680" y="32130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Times New Roman"/>
              </a:rPr>
              <a:t>領袖週講座活動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元智簡史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1773360"/>
            <a:ext cx="396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創辦人：徐有庠先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6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籌設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9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工學院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97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大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86080" cy="1643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01120" y="1341360"/>
            <a:ext cx="475164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第一屆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9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業師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2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導生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第二屆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業師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導生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191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第三屆：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業師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23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位導生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YeSir 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師友計畫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66640" y="2781360"/>
            <a:ext cx="5085000" cy="32004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911840" y="1773360"/>
            <a:ext cx="2036520" cy="1279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7093080" y="1341360"/>
            <a:ext cx="1731960" cy="12319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7093080" y="2708280"/>
            <a:ext cx="1706400" cy="12002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940360" y="3645000"/>
            <a:ext cx="1630440" cy="2376360"/>
          </a:xfrm>
          <a:prstGeom prst="rect">
            <a:avLst/>
          </a:prstGeom>
          <a:ln w="936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21" name=""/>
          <p:cNvSpPr/>
          <p:nvPr/>
        </p:nvSpPr>
        <p:spPr>
          <a:xfrm>
            <a:off x="6804000" y="2349360"/>
            <a:ext cx="504720" cy="5032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406440" y="404640"/>
            <a:ext cx="8501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宿舍生活學習區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219640" y="3800520"/>
            <a:ext cx="3456000" cy="2305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66560" y="2158920"/>
            <a:ext cx="4623120" cy="30798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219640" y="1341360"/>
            <a:ext cx="3456000" cy="2305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駐宿夜談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41040" y="3395520"/>
            <a:ext cx="71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4-97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學年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6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場，學生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,300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人次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408400" cy="18162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336840" y="1484280"/>
            <a:ext cx="2414520" cy="18162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11920" y="1484280"/>
            <a:ext cx="2414520" cy="18162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755640" y="4148280"/>
            <a:ext cx="2408400" cy="1809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>
            <a:off x="3348000" y="4148280"/>
            <a:ext cx="2414520" cy="1809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33" name="" descr=""/>
          <p:cNvPicPr/>
          <p:nvPr/>
        </p:nvPicPr>
        <p:blipFill>
          <a:blip r:embed="rId6"/>
          <a:stretch/>
        </p:blipFill>
        <p:spPr>
          <a:xfrm>
            <a:off x="5918040" y="4148280"/>
            <a:ext cx="2414880" cy="1809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197000"/>
            <a:ext cx="9144000" cy="5761080"/>
          </a:xfrm>
          <a:prstGeom prst="rect">
            <a:avLst/>
          </a:prstGeom>
          <a:ln w="12600">
            <a:solidFill>
              <a:srgbClr val="463634"/>
            </a:solidFill>
            <a:miter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美育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－美學之道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2089080" cy="14734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435400" y="5084640"/>
            <a:ext cx="2089080" cy="14734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619520" y="5084640"/>
            <a:ext cx="2089080" cy="14734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6804000" y="5084640"/>
            <a:ext cx="2089080" cy="1473480"/>
          </a:xfrm>
          <a:prstGeom prst="rect">
            <a:avLst/>
          </a:prstGeom>
          <a:ln w="19080">
            <a:solidFill>
              <a:srgbClr val="ff9933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6"/>
          <a:stretch/>
        </p:blipFill>
        <p:spPr>
          <a:xfrm rot="19605000">
            <a:off x="755280" y="1846440"/>
            <a:ext cx="1771560" cy="251928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 rot="20975400">
            <a:off x="2123640" y="1773360"/>
            <a:ext cx="1774800" cy="251928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 rot="532800">
            <a:off x="3419640" y="1990440"/>
            <a:ext cx="1771560" cy="251928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暑期密集英語營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95280" y="1376280"/>
            <a:ext cx="2664000" cy="1981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3236760" y="1365120"/>
            <a:ext cx="2664000" cy="1981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6084720" y="1376280"/>
            <a:ext cx="2664000" cy="1981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384120" y="3519360"/>
            <a:ext cx="2664000" cy="1981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3236760" y="3524400"/>
            <a:ext cx="2664000" cy="1981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6084720" y="3513240"/>
            <a:ext cx="2664000" cy="198108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海外專業實習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640" y="1339920"/>
            <a:ext cx="4321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迪士尼暑期專業實習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泰國台商專業實習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大陸台商專業實習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Times New Roman"/>
              </a:rPr>
              <a:t>上海亞東石化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Times New Roman"/>
              </a:rPr>
              <a:t>蘇州亞東工業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Times New Roman"/>
              </a:rPr>
              <a:t>大陸東莞華科電子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Times New Roman"/>
              </a:rPr>
              <a:t>中合纖維製線廠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00"/>
                </a:solidFill>
                <a:latin typeface="Times New Roman"/>
              </a:rPr>
              <a:t>上海永大電梯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4643280" y="1268280"/>
            <a:ext cx="3098880" cy="2183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5580000" y="3068640"/>
            <a:ext cx="3170160" cy="23781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56000" y="4508640"/>
            <a:ext cx="1944720" cy="1468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國際志工服務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3745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5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印度大吉嶺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80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馬拉威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80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7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肯亞、印尼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80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8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尼泊爾、泰北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80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2009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土耳其、烏克蘭、</a:t>
            </a: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馬來西亞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45080" y="571644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Times New Roman"/>
              </a:rPr>
              <a:t>「你所不知道的世界」國際志工展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4356000" y="1257480"/>
            <a:ext cx="4395960" cy="4403520"/>
          </a:xfrm>
          <a:prstGeom prst="rect">
            <a:avLst/>
          </a:prstGeom>
          <a:ln w="936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826920" y="4005360"/>
            <a:ext cx="3048120" cy="2108160"/>
          </a:xfrm>
          <a:prstGeom prst="rect">
            <a:avLst/>
          </a:prstGeom>
          <a:ln w="9360">
            <a:solidFill>
              <a:srgbClr val="463634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95280" y="210960"/>
            <a:ext cx="5580000" cy="37227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227640" y="765000"/>
            <a:ext cx="2590920" cy="17319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1332000" y="4149720"/>
            <a:ext cx="3170160" cy="21146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4772160" y="2708280"/>
            <a:ext cx="4047840" cy="2700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啦啦隊競賽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748400" cy="3524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643280" y="2709720"/>
            <a:ext cx="4029120" cy="3024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5988960" y="1413000"/>
            <a:ext cx="127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榮譽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元智大使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356000" y="3068640"/>
            <a:ext cx="4389480" cy="2889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395600" cy="28893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371" name=""/>
          <p:cNvSpPr/>
          <p:nvPr/>
        </p:nvSpPr>
        <p:spPr>
          <a:xfrm>
            <a:off x="1378440" y="4724280"/>
            <a:ext cx="14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</a:rPr>
              <a:t>●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應對禮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標楷體"/>
                <a:ea typeface="標楷體"/>
              </a:rPr>
              <a:t>●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 </a:t>
            </a:r>
            <a:r>
              <a:rPr b="1" lang="zh-TW" sz="2800" spc="-1" strike="noStrike">
                <a:solidFill>
                  <a:srgbClr val="ff0000"/>
                </a:solidFill>
                <a:latin typeface="標楷體"/>
                <a:ea typeface="標楷體"/>
              </a:rPr>
              <a:t>榮譽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33320" y="1109880"/>
            <a:ext cx="7771320" cy="5770800"/>
            <a:chOff x="733320" y="1109880"/>
            <a:chExt cx="7771320" cy="5770800"/>
          </a:xfrm>
        </p:grpSpPr>
        <p:sp>
          <p:nvSpPr>
            <p:cNvPr id="108" name=""/>
            <p:cNvSpPr/>
            <p:nvPr/>
          </p:nvSpPr>
          <p:spPr>
            <a:xfrm rot="1136400">
              <a:off x="4960440" y="1573200"/>
              <a:ext cx="1824120" cy="122724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500600">
              <a:off x="2542680" y="2325600"/>
              <a:ext cx="4319640" cy="2697120"/>
            </a:xfrm>
            <a:prstGeom prst="ellipse">
              <a:avLst/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20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136400">
              <a:off x="1242720" y="1373040"/>
              <a:ext cx="1827000" cy="122724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36400">
              <a:off x="1498680" y="3742920"/>
              <a:ext cx="1758960" cy="126360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136400">
              <a:off x="4239720" y="5391000"/>
              <a:ext cx="1830600" cy="122580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136400">
              <a:off x="6519960" y="3782520"/>
              <a:ext cx="1834920" cy="122868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92600" y="3144960"/>
              <a:ext cx="25956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3680" indent="-193680">
                <a:spcBef>
                  <a:spcPts val="275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通識教學部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體育室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軍訓室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終身教育部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15" name="b6" descr=""/>
            <p:cNvPicPr/>
            <p:nvPr/>
          </p:nvPicPr>
          <p:blipFill>
            <a:blip r:embed="rId5"/>
            <a:stretch/>
          </p:blipFill>
          <p:spPr>
            <a:xfrm>
              <a:off x="3475080" y="2030400"/>
              <a:ext cx="8874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273560" y="5602320"/>
              <a:ext cx="1733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管理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六系七所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02200" y="1768320"/>
              <a:ext cx="17334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工程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四系五所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3320" y="1660680"/>
              <a:ext cx="272412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人文社會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七系四所</a:t>
              </a:r>
              <a:br>
                <a:rPr sz="20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一中心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90760" y="3789360"/>
              <a:ext cx="17334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資訊學院</a:t>
              </a:r>
              <a:br>
                <a:rPr sz="20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五系四所</a:t>
              </a:r>
              <a:br>
                <a:rPr sz="20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一碩士學程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72360" y="4076640"/>
              <a:ext cx="20635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電機通訊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四系三所</a:t>
              </a:r>
              <a:r>
                <a:rPr b="1" lang="zh-TW" sz="2000" spc="-1" strike="noStrike">
                  <a:solidFill>
                    <a:srgbClr val="006600"/>
                  </a:solidFill>
                  <a:latin typeface="標楷體"/>
                  <a:ea typeface="標楷體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2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教學單位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58920" y="907920"/>
            <a:ext cx="217440" cy="50508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093080" y="3213000"/>
            <a:ext cx="287280" cy="432000"/>
          </a:xfrm>
          <a:prstGeom prst="line">
            <a:avLst/>
          </a:prstGeom>
          <a:ln w="9360">
            <a:solidFill>
              <a:srgbClr val="4636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404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Main Building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84720" y="2492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imes New Roman"/>
              </a:rPr>
              <a:t>University Librar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6720" y="40464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標楷體"/>
                <a:ea typeface="標楷體"/>
              </a:rPr>
              <a:t>－校園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95280" y="33336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－圖書資訊大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684360" y="1521000"/>
            <a:ext cx="7921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年「第一屆遠東傑出建築設計獎」傑出獎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843440" y="2205000"/>
            <a:ext cx="3760920" cy="2816280"/>
          </a:xfrm>
          <a:prstGeom prst="rect">
            <a:avLst/>
          </a:prstGeom>
          <a:ln w="3240">
            <a:solidFill>
              <a:srgbClr val="463634"/>
            </a:solidFill>
            <a:miter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47560" y="3149640"/>
            <a:ext cx="5319720" cy="3004920"/>
          </a:xfrm>
          <a:prstGeom prst="rect">
            <a:avLst/>
          </a:prstGeom>
          <a:ln w="38160">
            <a:solidFill>
              <a:srgbClr val="aa947e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06440" y="33336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－圖書資訊大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39640" y="1182600"/>
            <a:ext cx="7812360" cy="5210280"/>
          </a:xfrm>
          <a:prstGeom prst="rect">
            <a:avLst/>
          </a:prstGeom>
          <a:ln w="12600">
            <a:solidFill>
              <a:srgbClr val="463634"/>
            </a:solidFill>
            <a:miter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06440" y="33336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－ 遠東有庠通訊大樓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682200" y="1197000"/>
            <a:ext cx="7921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8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年「台灣建築獎」首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1116000" y="1797120"/>
            <a:ext cx="6912000" cy="460692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06440" y="33336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－第三學生餐廳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【 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圓夢園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】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987800" y="1268280"/>
            <a:ext cx="3870360" cy="290196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52360" y="1860480"/>
            <a:ext cx="5688000" cy="42674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06440" y="333360"/>
            <a:ext cx="850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  <a:ea typeface="標楷體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－第三學生宿舍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55640" y="1252440"/>
            <a:ext cx="7705800" cy="5139000"/>
          </a:xfrm>
          <a:prstGeom prst="rect">
            <a:avLst/>
          </a:prstGeom>
          <a:ln w="9360">
            <a:solidFill>
              <a:srgbClr val="463634"/>
            </a:solidFill>
            <a:miter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1280" y="380520"/>
            <a:ext cx="83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境教</a:t>
            </a: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－有庠紀念館</a:t>
            </a:r>
            <a:r>
              <a:rPr b="1" lang="zh-TW" sz="2800" spc="-1" strike="noStrike">
                <a:solidFill>
                  <a:srgbClr val="990033"/>
                </a:solidFill>
                <a:latin typeface="Times New Roman"/>
              </a:rPr>
              <a:t>（規劃中）</a:t>
            </a:r>
            <a:endParaRPr b="1" lang="en-US" sz="2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55280" y="1452240"/>
            <a:ext cx="713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展示、演藝、音樂、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udio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44600"/>
          <a:ext cx="7704000" cy="3200400"/>
        </p:xfrm>
        <a:graphic>
          <a:graphicData uri="http://schemas.openxmlformats.org/drawingml/2006/table">
            <a:tbl>
              <a:tblPr/>
              <a:tblGrid>
                <a:gridCol w="2568600"/>
                <a:gridCol w="2566800"/>
                <a:gridCol w="2568600"/>
              </a:tblGrid>
              <a:tr h="433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Santiago Calatrava  </a:t>
                      </a: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標楷體"/>
                        </a:rPr>
                        <a:t>作品選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solidFill>
                      <a:srgbClr val="5f5f5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63634"/>
                          </a:solidFill>
                          <a:latin typeface="Times New Roman"/>
                          <a:ea typeface="標楷體"/>
                        </a:rPr>
                        <a:t>Puente del Alamillo at night, Seville, Spain, (1992)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463634"/>
                          </a:solidFill>
                          <a:latin typeface="Times New Roman"/>
                          <a:ea typeface="標楷體"/>
                        </a:rPr>
                        <a:t>Ciutat de les Arts i les Ciències, Valencia, Spain (1996)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463634"/>
                          </a:solidFill>
                          <a:latin typeface="Times New Roman"/>
                          <a:ea typeface="標楷體"/>
                        </a:rPr>
                        <a:t>Milwaukee Art Museum in Milwaukee, Wisconsin, USA (2001)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084720" y="2773440"/>
            <a:ext cx="2305080" cy="17319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971640" y="2813040"/>
            <a:ext cx="2317680" cy="166356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3492360" y="3021120"/>
            <a:ext cx="237816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595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培養元智學生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務實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且具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意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之特質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合作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之精神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社會關懷</a:t>
            </a:r>
            <a:r>
              <a:rPr b="1" lang="zh-TW" sz="3200" spc="-1" strike="noStrike">
                <a:solidFill>
                  <a:srgbClr val="0000ff"/>
                </a:solidFill>
                <a:latin typeface="Times New Roman"/>
                <a:ea typeface="標楷體"/>
              </a:rPr>
              <a:t>之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1600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  <a:ea typeface="標楷體"/>
              </a:rPr>
              <a:t>期　許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6668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注意機車安全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切勿沉迷網路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600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  <a:ea typeface="標楷體"/>
              </a:rPr>
              <a:t>千萬叮嚀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295280" y="177336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資訊</a:t>
            </a:r>
            <a:br>
              <a:rPr sz="5400"/>
            </a:b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　→知識</a:t>
            </a:r>
            <a:br>
              <a:rPr sz="5400"/>
            </a:b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　　　→見識</a:t>
            </a:r>
            <a:br>
              <a:rPr sz="5400"/>
            </a:br>
            <a:r>
              <a:rPr b="1" lang="zh-TW" sz="5400" spc="-1" strike="noStrike">
                <a:solidFill>
                  <a:srgbClr val="0000ff"/>
                </a:solidFill>
                <a:latin typeface="標楷體"/>
                <a:ea typeface="標楷體"/>
              </a:rPr>
              <a:t>　　　　　→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智慧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學生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447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生總數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8,98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（日間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14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，夜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266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88920" y="1976400"/>
          <a:ext cx="65008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976400"/>
                    <a:ext cx="65008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1371600" y="2590920"/>
            <a:ext cx="5029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緣至元智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　　圓志圓智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48400" y="69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歡迎加入元智家族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！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222720" y="2781360"/>
            <a:ext cx="2886120" cy="32097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83080" y="1557360"/>
            <a:ext cx="2160720" cy="1422360"/>
          </a:xfrm>
          <a:prstGeom prst="cloudCallout">
            <a:avLst>
              <a:gd name="adj1" fmla="val -58597"/>
              <a:gd name="adj2" fmla="val 7098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福氣啦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師資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90720" y="2127240"/>
          <a:ext cx="648972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27240"/>
                    <a:ext cx="64897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任教師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24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36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元智邁入新里程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1773360"/>
            <a:ext cx="3962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創辦人：徐有庠先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6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籌設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9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工學院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97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大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2009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	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　創校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20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週年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286080" cy="1643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4000" y="133956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</a:rPr>
              <a:t>出生率下降，錄取率提高，學生來源減少、素質較差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</a:rPr>
              <a:t>教育部獎補助經費逐年減少，學雜費增調困難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</a:rPr>
              <a:t>各類評鑑與排名競爭日益激烈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</a:rPr>
              <a:t>國立大學強勢爭取優秀學生、師資與教研經費之競爭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63634"/>
                </a:solidFill>
                <a:latin typeface="Times New Roman"/>
              </a:rPr>
              <a:t>與國外及大陸大學的合作與競爭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4835520"/>
            <a:ext cx="842472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「創新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‧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前瞻」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－重新檢視過去，對未來作前瞻性的規劃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　　　</a:t>
            </a:r>
            <a:r>
              <a:rPr b="1" lang="zh-TW" sz="2400" spc="-1" strike="noStrike">
                <a:solidFill>
                  <a:srgbClr val="ff0066"/>
                </a:solidFill>
                <a:latin typeface="Times New Roman"/>
                <a:ea typeface="標楷體"/>
              </a:rPr>
              <a:t>彙集共識</a:t>
            </a:r>
            <a:r>
              <a:rPr b="1" lang="zh-TW" sz="24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－化為共同努力的目標　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4292640"/>
            <a:ext cx="719280" cy="431640"/>
          </a:xfrm>
          <a:prstGeom prst="downArrow">
            <a:avLst>
              <a:gd name="adj1" fmla="val 45694"/>
              <a:gd name="adj2" fmla="val 58824"/>
            </a:avLst>
          </a:prstGeom>
          <a:solidFill>
            <a:srgbClr val="33cccc"/>
          </a:solidFill>
          <a:ln w="936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26028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挑戰與因應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129060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元智大學將成為具國際聲望的</a:t>
            </a:r>
            <a:br>
              <a:rPr sz="2800"/>
            </a:br>
            <a:r>
              <a:rPr b="1" lang="zh-TW" sz="2800" spc="-1" strike="noStrike">
                <a:solidFill>
                  <a:srgbClr val="ff0066"/>
                </a:solidFill>
                <a:latin typeface="Times New Roman"/>
                <a:ea typeface="標楷體"/>
              </a:rPr>
              <a:t>雙語大學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ff0066"/>
                </a:solidFill>
                <a:latin typeface="Times New Roman"/>
                <a:ea typeface="標楷體"/>
              </a:rPr>
              <a:t>應用導向研究型大學</a:t>
            </a:r>
            <a:r>
              <a:rPr b="1" lang="zh-TW" sz="2800" spc="-1" strike="noStrike">
                <a:solidFill>
                  <a:srgbClr val="463634"/>
                </a:solidFill>
                <a:latin typeface="Times New Roman"/>
                <a:ea typeface="標楷體"/>
              </a:rPr>
              <a:t>，</a:t>
            </a:r>
            <a:br>
              <a:rPr sz="2800"/>
            </a:br>
            <a:r>
              <a:rPr b="1" lang="zh-TW" sz="2800" spc="-1" strike="noStrike">
                <a:solidFill>
                  <a:srgbClr val="463634"/>
                </a:solidFill>
                <a:latin typeface="Times New Roman"/>
                <a:ea typeface="標楷體"/>
              </a:rPr>
              <a:t>擁有創新、多元、和諧的校園氛圍，</a:t>
            </a:r>
            <a:br>
              <a:rPr sz="2800"/>
            </a:br>
            <a:r>
              <a:rPr b="1" lang="zh-TW" sz="2800" spc="-1" strike="noStrike">
                <a:solidFill>
                  <a:srgbClr val="463634"/>
                </a:solidFill>
                <a:latin typeface="Times New Roman"/>
                <a:ea typeface="標楷體"/>
              </a:rPr>
              <a:t>提供高品質、國際化的教育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標楷體"/>
              </a:rPr>
              <a:t>Yuan Ze University aspires to become 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標楷體"/>
              </a:rPr>
              <a:t>a bilingual and application-oriented research university 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標楷體"/>
              </a:rPr>
              <a:t>with international reputation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標楷體"/>
              </a:rPr>
              <a:t>Yuan Ze University will continue to have an innovative, diversified, and harmonious campus atmosphere, 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標楷體"/>
              </a:rPr>
              <a:t>and excels in high-quality, internationalized education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33360"/>
            <a:ext cx="7848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Vision 20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24720" y="-27000"/>
            <a:ext cx="16192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3:58:38Z</dcterms:created>
  <dc:creator>Joyce</dc:creator>
  <dc:description/>
  <dc:language>en-US</dc:language>
  <cp:lastModifiedBy>joyce</cp:lastModifiedBy>
  <dcterms:modified xsi:type="dcterms:W3CDTF">2009-12-18T07:16:00Z</dcterms:modified>
  <cp:revision>152</cp:revision>
  <dc:subject/>
  <dc:title>PowerPoint 簡報</dc:title>
</cp:coreProperties>
</file>