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8.gif" ContentType="image/gif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FB11-5A8F-42F7-9272-32511EF5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BB9-CFE8-4AED-B78C-BEB84A99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0BB-EA7C-497F-A7D8-7A9F2079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A87-C7CD-4D29-9BB8-A8C65D17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BB0E-DE8C-45FD-9F5D-FEC9CBA5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A87-9C01-46FA-AF2F-6B959547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1671-8B17-4C01-A1F1-9DAE1C4D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8FC-F1AB-47DC-9CC4-3BE9B85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0211-76EC-484A-AC4B-9D8BD250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54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50CF-A7AF-46F4-A2B1-5861DEE8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AFE-F1EC-4D41-A78E-1BF16EA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169-E143-46BF-98EB-C8050AC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FD67-494D-43C9-BB26-3728B51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CE7E-E9EE-45EB-B934-E0457C5D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E11-60E5-4B61-84A9-8B3371A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01FC-34F4-4B26-93E4-6EFCAB08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CE50-77EC-4219-9A11-11FEBA2F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7F7-C4D3-4459-93B8-9AA1C8D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155D-94BB-4B84-964D-E4812432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86C-6805-4534-9AD8-AB4A1DF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54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9EFB-8E8A-4804-84A9-641F85EA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8154-59BE-4B01-8C6A-29F8CF5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F40-6C68-49EB-9C45-8876BC88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C17-E232-43A0-AC22-84AF02FA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66672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6488280"/>
            <a:ext cx="9144000" cy="426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562720" y="5191200"/>
            <a:ext cx="3581280" cy="156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flipV="1">
            <a:off x="-33120" y="6395400"/>
            <a:ext cx="7162920" cy="8100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8358120" y="6400800"/>
            <a:ext cx="1067040" cy="7632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1AC3-8F6C-40BA-B906-F2EF61AB309A}" type="slidenum"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982080" cy="629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6389640"/>
            <a:ext cx="9982080" cy="46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0" y="6294600"/>
            <a:ext cx="9982080" cy="12528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557D-9753-4B22-B912-3783B57C26B5}" type="slidenum"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7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7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4120" y="4800600"/>
            <a:ext cx="2590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元智大學校長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彭宗平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pt. 10, 2006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00400" y="29718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校長有約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00360" y="2257560"/>
            <a:ext cx="3771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中黑體"/>
              </a:rPr>
              <a:t>2006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中黑體"/>
              </a:rPr>
              <a:t>新生家長訪校日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中黑體"/>
              <a:ea typeface="華康中黑體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95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90520" y="288144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990033"/>
                </a:solidFill>
                <a:latin typeface="Times New Roman"/>
              </a:rPr>
              <a:t>先頂尖，後公私！？</a:t>
            </a: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066680" y="266688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理想的大學教育與生活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52760" y="2133720"/>
            <a:ext cx="25207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求知慾與創造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通才與專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人文與科技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第二專長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語文、資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通識教育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</a:rPr>
              <a:t>現代大學教育之重要課題</a:t>
            </a: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9528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專業技能的生命週期日趨縮短；學生的思考、分析與整合技術的能力比專業科目的能力更能持久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Clr>
                <a:srgbClr val="000066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學生對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歷史文化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與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社會發展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的知識必須加強。這些素養將有助於他們透過新的職場生態與社會環境，找到自己的定位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1066680"/>
            <a:ext cx="76201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  <a:ea typeface="標楷體"/>
              </a:rPr>
              <a:t>大學生活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課堂外的學習與課堂內的教育同等重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讀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社團：群己關係、溝通、領導、獨立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交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思想：眼光與品味、興趣與嗜好、</a:t>
            </a: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　　　知識份子的情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71640" y="1916280"/>
            <a:ext cx="676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在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MIT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校園營造一種氣氛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讓學生接受挑戰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，並成為一流人才，便是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MIT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辦學成功的不二法門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        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            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--</a:t>
            </a:r>
            <a:r>
              <a:rPr b="1" lang="en-US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Charles M. Ves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(MIT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前校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219320" y="1752480"/>
            <a:ext cx="65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元智校園內建構一流學術殿堂的氣氛，讓學生潛移默化，自然願意在求學與研究激發潛力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挑戰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更高的目標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讓學生的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能力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與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精力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可以在大學校園內迸放。</a:t>
            </a:r>
            <a:r>
              <a:rPr b="1" lang="zh-TW" sz="3200" spc="-1" strike="noStrike">
                <a:solidFill>
                  <a:srgbClr val="daca9c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133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元智的教育原則簡單來講就是讓學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開  竅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2133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元智的教育目標簡單來講就是給學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最大加值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133720" y="1981080"/>
            <a:ext cx="5181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有系統有組織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表達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勤樸踏實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求學態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鑑賞文化與藝術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素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國際化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視野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終身學習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71600" y="2362320"/>
            <a:ext cx="5029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歡迎進入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　　頂尖大學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307280" y="4800600"/>
            <a:ext cx="479520" cy="92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613560" y="4800600"/>
            <a:ext cx="479520" cy="922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8001000" y="4800600"/>
            <a:ext cx="479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22860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學生教育推動特色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209680"/>
            <a:ext cx="3657600" cy="25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Aft>
                <a:spcPts val="4000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經典五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Aft>
                <a:spcPts val="4000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倫理教育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Aft>
                <a:spcPts val="4000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創意週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4876920" y="3962520"/>
            <a:ext cx="3733200" cy="2580840"/>
            <a:chOff x="4876920" y="3962520"/>
            <a:chExt cx="3733200" cy="2580840"/>
          </a:xfrm>
        </p:grpSpPr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>
              <a:off x="4876920" y="3962520"/>
              <a:ext cx="3733200" cy="25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01480" y="4084920"/>
              <a:ext cx="3483720" cy="233316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14400" y="1600200"/>
            <a:ext cx="762012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創　意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透過競賽、執行計畫或團隊合作，</a:t>
            </a: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增加學生共同討論、相互激盪之機會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22860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學生輔導推動特色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286000"/>
            <a:ext cx="5181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師友計畫</a:t>
            </a:r>
            <a:br>
              <a:rPr sz="3200"/>
            </a:b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宿舍生活學習</a:t>
            </a:r>
            <a:br>
              <a:rPr sz="3200"/>
            </a:b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服務學習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100480" y="4114800"/>
            <a:ext cx="1862280" cy="19954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學生住宿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828800"/>
            <a:ext cx="548640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學生宿舍五棟（共計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2,083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床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第三學生宿舍興建中（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1,200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床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規劃推動低年級生住宿制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推動宿舍生活學習圈</a:t>
            </a:r>
            <a:br>
              <a:rPr sz="2800"/>
            </a:b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－宿舍夜談</a:t>
            </a:r>
            <a:br>
              <a:rPr sz="2800"/>
            </a:b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－熱心教授輔導生活與學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6539040" y="3581280"/>
            <a:ext cx="2057400" cy="15433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78" name="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1981440" cy="148608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9" name=""/>
          <p:cNvSpPr/>
          <p:nvPr/>
        </p:nvSpPr>
        <p:spPr>
          <a:xfrm>
            <a:off x="7672320" y="307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463634"/>
                </a:solidFill>
                <a:latin typeface="Times New Roman"/>
                <a:ea typeface="標楷體"/>
              </a:rPr>
              <a:t>活動中心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81960" y="5118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463634"/>
                </a:solidFill>
                <a:latin typeface="Times New Roman"/>
                <a:ea typeface="標楷體"/>
              </a:rPr>
              <a:t>宿舍外觀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21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元智之教育理念與元智人特質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2178000"/>
            <a:ext cx="67057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育理念</a:t>
            </a:r>
            <a:br>
              <a:rPr sz="2800"/>
            </a:b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卓越、務實、宏觀、圓融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元智人特質－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I</a:t>
            </a:r>
            <a:br>
              <a:rPr sz="28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Internationalization, Information, Integration, Innovatio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元智人之能力－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E</a:t>
            </a:r>
            <a:br>
              <a:rPr sz="28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English, E-Life, Ethics, Entrepreneurship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培養元智學生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務實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且具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創意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特質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團隊合作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精神與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社會關懷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情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期　許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26668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注意機車安全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切勿沉迷網路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千萬叮嚀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190512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66"/>
                </a:solidFill>
                <a:latin typeface="標楷體"/>
                <a:ea typeface="標楷體"/>
              </a:rPr>
              <a:t>資訊</a:t>
            </a:r>
            <a:br>
              <a:rPr sz="5400"/>
            </a:br>
            <a:r>
              <a:rPr b="1" lang="zh-TW" sz="5400" spc="-1" strike="noStrike">
                <a:solidFill>
                  <a:srgbClr val="000066"/>
                </a:solidFill>
                <a:latin typeface="標楷體"/>
                <a:ea typeface="標楷體"/>
              </a:rPr>
              <a:t>　→知識</a:t>
            </a:r>
            <a:br>
              <a:rPr sz="5400"/>
            </a:br>
            <a:r>
              <a:rPr b="1" lang="zh-TW" sz="5400" spc="-1" strike="noStrike">
                <a:solidFill>
                  <a:srgbClr val="000066"/>
                </a:solidFill>
                <a:latin typeface="標楷體"/>
                <a:ea typeface="標楷體"/>
              </a:rPr>
              <a:t>　　　→見識</a:t>
            </a:r>
            <a:br>
              <a:rPr sz="5400"/>
            </a:br>
            <a:r>
              <a:rPr b="1" lang="zh-TW" sz="5400" spc="-1" strike="noStrike">
                <a:solidFill>
                  <a:srgbClr val="000066"/>
                </a:solidFill>
                <a:latin typeface="標楷體"/>
                <a:ea typeface="標楷體"/>
              </a:rPr>
              <a:t>　　　　　→</a:t>
            </a: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智慧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371600" y="2590920"/>
            <a:ext cx="5029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緣至元智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　　圓志圓智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80240" y="1447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歡迎加入元智家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！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22720" y="2781360"/>
            <a:ext cx="2886120" cy="3209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83080" y="1557360"/>
            <a:ext cx="2160720" cy="1422360"/>
          </a:xfrm>
          <a:prstGeom prst="cloudCallout">
            <a:avLst>
              <a:gd name="adj1" fmla="val -58597"/>
              <a:gd name="adj2" fmla="val 7098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  <a:ea typeface="標楷體"/>
              </a:rPr>
              <a:t>福氣啦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28195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元智概況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元智簡史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2209680"/>
            <a:ext cx="396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創辦人：徐有庠先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6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籌設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9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工學院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97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大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286080" cy="1643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-209160" y="-435240"/>
            <a:ext cx="9535320" cy="8573040"/>
            <a:chOff x="-209160" y="-435240"/>
            <a:chExt cx="9535320" cy="8573040"/>
          </a:xfrm>
        </p:grpSpPr>
        <p:sp>
          <p:nvSpPr>
            <p:cNvPr id="108" name=""/>
            <p:cNvSpPr/>
            <p:nvPr/>
          </p:nvSpPr>
          <p:spPr>
            <a:xfrm rot="1745400">
              <a:off x="609120" y="1143000"/>
              <a:ext cx="7898040" cy="5416560"/>
            </a:xfrm>
            <a:prstGeom prst="ellipse">
              <a:avLst/>
            </a:prstGeom>
            <a:solidFill>
              <a:srgbClr val="99ccff">
                <a:alpha val="54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136400">
              <a:off x="4960440" y="1573200"/>
              <a:ext cx="1824120" cy="122724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500600">
              <a:off x="2542680" y="2325600"/>
              <a:ext cx="4319640" cy="2697120"/>
            </a:xfrm>
            <a:prstGeom prst="ellipse">
              <a:avLst/>
            </a:prstGeom>
            <a:gradFill rotWithShape="0">
              <a:gsLst>
                <a:gs pos="0">
                  <a:srgbClr val="003b3b"/>
                </a:gs>
                <a:gs pos="50000">
                  <a:srgbClr val="008080"/>
                </a:gs>
                <a:gs pos="100000">
                  <a:srgbClr val="003b3b"/>
                </a:gs>
              </a:gsLst>
              <a:lin ang="120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36400">
              <a:off x="1242720" y="1373040"/>
              <a:ext cx="1827000" cy="122724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136400">
              <a:off x="1498680" y="3742920"/>
              <a:ext cx="1758960" cy="126360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136400">
              <a:off x="4239720" y="5391000"/>
              <a:ext cx="1830600" cy="122580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136400">
              <a:off x="6519960" y="3782520"/>
              <a:ext cx="1834920" cy="1228680"/>
            </a:xfrm>
            <a:prstGeom prst="ellipse">
              <a:avLst/>
            </a:prstGeom>
            <a:gradFill rotWithShape="0">
              <a:gsLst>
                <a:gs pos="0">
                  <a:srgbClr val="c1c14d"/>
                </a:gs>
                <a:gs pos="50000">
                  <a:srgbClr val="ffff66"/>
                </a:gs>
                <a:gs pos="100000">
                  <a:srgbClr val="c1c14d"/>
                </a:gs>
              </a:gsLst>
              <a:lin ang="12366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92600" y="3144960"/>
              <a:ext cx="25956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93680" indent="-193680">
                <a:spcBef>
                  <a:spcPts val="275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通識教育中心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93680" indent="-193680">
                <a:spcBef>
                  <a:spcPts val="275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體育室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93680" indent="-193680">
                <a:spcBef>
                  <a:spcPts val="275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軍訓室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  <a:p>
              <a:pPr marL="193680" indent="-193680">
                <a:spcBef>
                  <a:spcPts val="275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ffffff"/>
                  </a:solidFill>
                  <a:latin typeface="Times New Roman"/>
                  <a:ea typeface="標楷體"/>
                </a:rPr>
                <a:t>終身教育部</a:t>
              </a:r>
              <a:endParaRPr b="0" lang="en-US" sz="22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pic>
          <p:nvPicPr>
            <p:cNvPr id="116" name="b6" descr=""/>
            <p:cNvPicPr/>
            <p:nvPr/>
          </p:nvPicPr>
          <p:blipFill>
            <a:blip r:embed="rId5"/>
            <a:stretch/>
          </p:blipFill>
          <p:spPr>
            <a:xfrm>
              <a:off x="3475080" y="2030400"/>
              <a:ext cx="8874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273560" y="5602320"/>
              <a:ext cx="1733400" cy="8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Times New Roman"/>
                </a:rPr>
                <a:t>管理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六系五所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02200" y="1768320"/>
              <a:ext cx="17334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Times New Roman"/>
                </a:rPr>
                <a:t>工程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四系四所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320" y="1558800"/>
              <a:ext cx="272412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Times New Roman"/>
                </a:rPr>
                <a:t>人文社會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六系四所</a:t>
              </a:r>
              <a:br>
                <a:rPr sz="2000"/>
              </a:b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及一中心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90760" y="3956040"/>
              <a:ext cx="17334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Times New Roman"/>
                </a:rPr>
                <a:t>資訊學院</a:t>
              </a:r>
              <a:br>
                <a:rPr sz="2000"/>
              </a:b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五系四所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23120" y="4011480"/>
              <a:ext cx="206352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640" rIns="8964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6600"/>
                  </a:solidFill>
                  <a:latin typeface="Times New Roman"/>
                </a:rPr>
                <a:t>電機通訊學院</a:t>
              </a:r>
              <a:br>
                <a:rPr sz="2200"/>
              </a:b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(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三系三所</a:t>
              </a:r>
              <a:r>
                <a:rPr b="1" lang="zh-TW" sz="2000" spc="-1" strike="noStrike">
                  <a:solidFill>
                    <a:srgbClr val="0066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教學單位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學生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800" y="1447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生總數：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,932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（日間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,446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，夜間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,486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88920" y="1976400"/>
          <a:ext cx="6500880" cy="42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1976400"/>
                    <a:ext cx="65008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師資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990720" y="2127240"/>
          <a:ext cx="6489720" cy="427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127240"/>
                    <a:ext cx="64897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85800" y="1447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專任教師：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6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（不含特聘教授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、教官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近年辦學成果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14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榮獲行政院第十四屆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國家品質獎</a:t>
            </a:r>
            <a:br>
              <a:rPr sz="2800"/>
            </a:b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16146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005.05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榮獲教育部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「教學卓越計畫」</a:t>
            </a:r>
            <a:br>
              <a:rPr sz="2800"/>
            </a:b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16146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2005.10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榮獲教育部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「邁向頂尖大學計畫」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marL="16146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914400" y="4267080"/>
            <a:ext cx="9669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954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33"/>
                </a:solidFill>
                <a:latin typeface="Times New Roman"/>
              </a:rPr>
              <a:t>頂尖大學</a:t>
            </a:r>
            <a:endParaRPr b="1" lang="en-US" sz="4800" spc="-1" strike="noStrike">
              <a:solidFill>
                <a:srgbClr val="ff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TW" sz="3600" spc="-1" strike="noStrike">
                <a:solidFill>
                  <a:srgbClr val="463634"/>
                </a:solidFill>
                <a:latin typeface="Times New Roman"/>
              </a:rPr>
              <a:t>台大　　成大　　清大　　交大</a:t>
            </a:r>
            <a:br>
              <a:rPr sz="3600"/>
            </a:br>
            <a:r>
              <a:rPr b="1" lang="zh-TW" sz="3600" spc="-1" strike="noStrike">
                <a:solidFill>
                  <a:srgbClr val="463634"/>
                </a:solidFill>
                <a:latin typeface="Times New Roman"/>
              </a:rPr>
              <a:t>中央　　中山　　陽明　　中興</a:t>
            </a:r>
            <a:br>
              <a:rPr sz="3600"/>
            </a:br>
            <a:r>
              <a:rPr b="1" lang="zh-TW" sz="3600" spc="-1" strike="noStrike">
                <a:solidFill>
                  <a:srgbClr val="463634"/>
                </a:solidFill>
                <a:latin typeface="Times New Roman"/>
              </a:rPr>
              <a:t>政大　　台科大　長庚　　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元智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3:58:38Z</dcterms:created>
  <dc:creator>Joyce</dc:creator>
  <dc:description/>
  <dc:language>en-US</dc:language>
  <cp:lastModifiedBy>joyce</cp:lastModifiedBy>
  <dcterms:modified xsi:type="dcterms:W3CDTF">2007-08-30T08:12:02Z</dcterms:modified>
  <cp:revision>126</cp:revision>
  <dc:subject/>
  <dc:title>PowerPoint 簡報</dc:title>
</cp:coreProperties>
</file>