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62F-5019-4E0D-800C-3C81B79D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82C-570E-4975-9C1A-42B4C750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5E3-5F01-496C-889B-58D92E9B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70A-E0D4-4595-99A9-C382D5C7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C52-37BD-4E0E-BF35-835EBEE5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620-6644-4B21-AA28-9100EC87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580-80FF-468E-977A-B493F301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7C0-1382-4EF3-9C02-6486D0A3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FCB-F7FF-48A3-A660-B828A93B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817-812C-4BA9-AB60-B75B4F04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3E2-2041-4EAD-8F80-3DB1A8A2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790-206D-4A8F-B5A2-C85B74A2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67E0-FA61-46AD-BE5F-D5ED43F1443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45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新世紀領袖培育計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4600" y="1599840"/>
            <a:ext cx="52340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培育國際觀、創意、領導、關懷兼備之活力領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學年起實施，迄今累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學員多元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5000"/>
              </a:lnSpc>
              <a:spcBef>
                <a:spcPts val="488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6600"/>
                </a:solidFill>
                <a:latin typeface="Arial"/>
              </a:rPr>
              <a:t>新生、在校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5000"/>
              </a:lnSpc>
              <a:spcBef>
                <a:spcPts val="488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6600"/>
                </a:solidFill>
                <a:latin typeface="Arial"/>
              </a:rPr>
              <a:t>課業、社團、社會服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培育主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5000"/>
              </a:lnSpc>
              <a:spcBef>
                <a:spcPts val="488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6600"/>
                </a:solidFill>
                <a:latin typeface="Arial"/>
              </a:rPr>
              <a:t>創新創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5000"/>
              </a:lnSpc>
              <a:spcBef>
                <a:spcPts val="488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6600"/>
                </a:solidFill>
                <a:latin typeface="Arial"/>
              </a:rPr>
              <a:t>國際視野與志工服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5000"/>
              </a:lnSpc>
              <a:spcBef>
                <a:spcPts val="488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6600"/>
                </a:solidFill>
                <a:latin typeface="Arial"/>
              </a:rPr>
              <a:t>領袖鍛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專設導師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2000" y="3832200"/>
            <a:ext cx="2658960" cy="19940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7208280" y="586440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Times New Roman"/>
                <a:ea typeface="華康中圓體"/>
              </a:rPr>
              <a:t>國際扶輪青年領袖獎</a:t>
            </a:r>
            <a:br>
              <a:rPr sz="1400"/>
            </a:br>
            <a:r>
              <a:rPr b="1" lang="zh-TW" sz="1400" spc="-1" strike="noStrike">
                <a:solidFill>
                  <a:srgbClr val="800000"/>
                </a:solidFill>
                <a:latin typeface="Times New Roman"/>
                <a:ea typeface="華康中圓體"/>
              </a:rPr>
              <a:t>－志工服務成果觀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76800" y="1528920"/>
            <a:ext cx="2594160" cy="178272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7492680" y="33433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800000"/>
                </a:solidFill>
                <a:latin typeface="Times New Roman"/>
                <a:ea typeface="華康中圓體"/>
              </a:rPr>
              <a:t>領袖週講座活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09:38:28Z</dcterms:created>
  <dc:creator>Administrator</dc:creator>
  <dc:description/>
  <dc:language>en-US</dc:language>
  <cp:lastModifiedBy>Administrator</cp:lastModifiedBy>
  <dcterms:modified xsi:type="dcterms:W3CDTF">2012-04-26T09:38:32Z</dcterms:modified>
  <cp:revision>1</cp:revision>
  <dc:subject/>
  <dc:title>新世紀領袖培育計畫</dc:title>
</cp:coreProperties>
</file>