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gif" ContentType="image/gif"/>
  <Override PartName="/ppt/media/image9.png" ContentType="image/png"/>
  <Override PartName="/ppt/media/image7.png" ContentType="image/png"/>
  <Override PartName="/ppt/media/image11.wmf" ContentType="image/x-wmf"/>
  <Override PartName="/ppt/media/image8.gif" ContentType="image/gif"/>
  <Override PartName="/ppt/media/image10.wmf" ContentType="image/x-wmf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5507-02B2-4BA5-8E74-DE65A58DB87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495F-215F-4F29-AC01-DFDB4388586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8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3480" y="4723920"/>
            <a:ext cx="49687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F575-F5E2-4614-A2D8-1C9F64B5125C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8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3480" y="4723920"/>
            <a:ext cx="49687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8DE-A833-4659-8497-4830FEF5AF1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880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3480" y="4723920"/>
            <a:ext cx="49687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1AA-9000-4A70-9746-676FA172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D30-7155-4C86-8924-EE838177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A38-4052-4EA3-AAA5-BEE93C70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DA4-DA37-494F-9338-1A685056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785-B0C2-4283-B1B7-92A97D5A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8E3-0214-4592-8CC3-1E6C5897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3E3-5075-4458-9D64-A4CDCD39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C8D-911F-4068-8527-9696419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F6E-496B-4AE6-83E5-AB0BDA80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1E8-08C4-4215-AD79-5BA7D62C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FF4-C1B1-4436-98CA-5792188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F61-F5CA-43E8-96E3-789FADE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5867280" y="5424480"/>
            <a:ext cx="3276720" cy="143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A930-BC5D-47AC-81A3-DE1CA934A9B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yzu.edu.tw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24960" y="1495440"/>
            <a:ext cx="4249800" cy="48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94</a:t>
            </a:r>
            <a:r>
              <a:rPr b="1" lang="zh-TW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學年度元智大學暨高中校務主管聯席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育人談教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彭宗平</a:t>
            </a:r>
            <a:br>
              <a:rPr sz="3600"/>
            </a:br>
            <a:br>
              <a:rPr sz="3600"/>
            </a:b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26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15880" y="2666880"/>
            <a:ext cx="658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培養自我學習的能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3276360" cy="1031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57440" y="2598840"/>
            <a:ext cx="395784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More </a:t>
            </a: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6600"/>
                </a:solidFill>
                <a:latin typeface="Times New Roman"/>
              </a:rPr>
              <a:t>teac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188720" y="2530440"/>
            <a:ext cx="712476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You lear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from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You learn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by working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69636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求學問　須學問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只學答　非學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                  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－李政道先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2362320" cy="175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65160" y="1371600"/>
            <a:ext cx="25275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標楷體"/>
                <a:ea typeface="標楷體"/>
              </a:rPr>
              <a:t>優良教師之條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愛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專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熱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關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使命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22440" y="2052720"/>
            <a:ext cx="4204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標楷體"/>
                <a:ea typeface="標楷體"/>
              </a:rPr>
              <a:t>對教育的認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教育不只是工作 更是事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41600" y="1585800"/>
            <a:ext cx="41432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00"/>
                </a:solidFill>
                <a:latin typeface="Times New Roman"/>
                <a:ea typeface="標楷體"/>
              </a:rPr>
              <a:t>期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鼓勵學生的好奇心與創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協助學生建立價值觀與人生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熱心參與學校事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1905120"/>
            <a:ext cx="592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對特殊的學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應予特別的照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0600" y="4417920"/>
            <a:ext cx="2209680" cy="14796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95280" y="1981080"/>
            <a:ext cx="50292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儷粗黑"/>
              </a:rPr>
              <a:t>大學教育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儷粗黑"/>
              </a:rPr>
              <a:t>之認知與定位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3880" y="2057040"/>
            <a:ext cx="5943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大學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    知識分子的搖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            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社會進步的推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主要任務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    人才培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　　            學術研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3276720"/>
            <a:ext cx="6477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劉炯朗教授《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養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和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育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－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95.01.27 </a:t>
            </a:r>
            <a:r>
              <a:rPr b="1" lang="zh-TW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聯合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71600" y="1752480"/>
            <a:ext cx="20955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儷粗黑"/>
              </a:rPr>
              <a:t>序 曲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5640" y="1623960"/>
            <a:ext cx="7321680" cy="41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大學是社會的領航者，它走在社會的前端，開拓新知識領域，發展新科技，並且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孕育新的思想與文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作為追求至善的機構，大學必須不斷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求新求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Donald Kennedy</a:t>
            </a:r>
            <a:br>
              <a:rPr sz="24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                   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史丹佛大學前校長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0200" y="56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904760" y="1981080"/>
            <a:ext cx="51814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Times New Roman"/>
                <a:ea typeface="標楷體"/>
              </a:rPr>
              <a:t>中小學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：知識的傳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ff3300"/>
                </a:solidFill>
                <a:latin typeface="Times New Roman"/>
                <a:ea typeface="標楷體"/>
              </a:rPr>
              <a:t>　　　　“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養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大　學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：創造新知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  <a:ea typeface="標楷體"/>
              </a:rPr>
              <a:t>　　　　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教育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93640" y="2561760"/>
            <a:ext cx="6334560" cy="3826440"/>
            <a:chOff x="593640" y="2561760"/>
            <a:chExt cx="6334560" cy="3826440"/>
          </a:xfrm>
        </p:grpSpPr>
        <p:grpSp>
          <p:nvGrpSpPr>
            <p:cNvPr id="78" name=""/>
            <p:cNvGrpSpPr/>
            <p:nvPr/>
          </p:nvGrpSpPr>
          <p:grpSpPr>
            <a:xfrm>
              <a:off x="835560" y="2561760"/>
              <a:ext cx="6092640" cy="3826440"/>
              <a:chOff x="835560" y="2561760"/>
              <a:chExt cx="6092640" cy="3826440"/>
            </a:xfrm>
          </p:grpSpPr>
          <p:sp>
            <p:nvSpPr>
              <p:cNvPr id="79" name=""/>
              <p:cNvSpPr/>
              <p:nvPr/>
            </p:nvSpPr>
            <p:spPr>
              <a:xfrm rot="975600">
                <a:off x="1059480" y="3340800"/>
                <a:ext cx="5659560" cy="2301120"/>
              </a:xfrm>
              <a:prstGeom prst="ellipse">
                <a:avLst/>
              </a:prstGeom>
              <a:noFill/>
              <a:ln w="507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975600">
                <a:off x="1044000" y="3308400"/>
                <a:ext cx="5663160" cy="2300760"/>
              </a:xfrm>
              <a:prstGeom prst="ellipse">
                <a:avLst/>
              </a:prstGeom>
              <a:noFill/>
              <a:ln w="1260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93640" y="3278160"/>
              <a:ext cx="1719000" cy="800280"/>
              <a:chOff x="593640" y="3278160"/>
              <a:chExt cx="1719000" cy="800280"/>
            </a:xfrm>
          </p:grpSpPr>
          <p:sp>
            <p:nvSpPr>
              <p:cNvPr id="82" name=""/>
              <p:cNvSpPr/>
              <p:nvPr/>
            </p:nvSpPr>
            <p:spPr>
              <a:xfrm>
                <a:off x="593640" y="3278160"/>
                <a:ext cx="1719000" cy="800280"/>
              </a:xfrm>
              <a:prstGeom prst="ellipse">
                <a:avLst/>
              </a:prstGeom>
              <a:gradFill rotWithShape="0">
                <a:gsLst>
                  <a:gs pos="0">
                    <a:srgbClr val="fededf"/>
                  </a:gs>
                  <a:gs pos="100000">
                    <a:srgbClr val="ff7c8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98200" y="3468600"/>
                <a:ext cx="1219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200" spc="-1" strike="noStrike">
                    <a:solidFill>
                      <a:srgbClr val="000000"/>
                    </a:solidFill>
                    <a:latin typeface="Times New Roman"/>
                    <a:ea typeface="標楷體"/>
                  </a:rPr>
                  <a:t>專業訓練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" name=""/>
          <p:cNvGrpSpPr/>
          <p:nvPr/>
        </p:nvGrpSpPr>
        <p:grpSpPr>
          <a:xfrm>
            <a:off x="2589120" y="2792520"/>
            <a:ext cx="1720800" cy="836640"/>
            <a:chOff x="2589120" y="2792520"/>
            <a:chExt cx="1720800" cy="836640"/>
          </a:xfrm>
        </p:grpSpPr>
        <p:sp>
          <p:nvSpPr>
            <p:cNvPr id="85" name=""/>
            <p:cNvSpPr/>
            <p:nvPr/>
          </p:nvSpPr>
          <p:spPr>
            <a:xfrm>
              <a:off x="2589120" y="2792520"/>
              <a:ext cx="1720800" cy="836640"/>
            </a:xfrm>
            <a:prstGeom prst="ellipse">
              <a:avLst/>
            </a:prstGeom>
            <a:gradFill rotWithShape="0">
              <a:gsLst>
                <a:gs pos="0">
                  <a:srgbClr val="fee5cc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79640" y="2973240"/>
              <a:ext cx="1218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理性思辨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84760" y="3583080"/>
            <a:ext cx="1722240" cy="836640"/>
            <a:chOff x="4784760" y="3583080"/>
            <a:chExt cx="1722240" cy="836640"/>
          </a:xfrm>
        </p:grpSpPr>
        <p:sp>
          <p:nvSpPr>
            <p:cNvPr id="88" name=""/>
            <p:cNvSpPr/>
            <p:nvPr/>
          </p:nvSpPr>
          <p:spPr>
            <a:xfrm>
              <a:off x="4784760" y="3583080"/>
              <a:ext cx="1722240" cy="83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65560" y="3747960"/>
              <a:ext cx="1218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追求真理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432080" y="4497480"/>
            <a:ext cx="1722240" cy="836640"/>
            <a:chOff x="1432080" y="4497480"/>
            <a:chExt cx="1722240" cy="836640"/>
          </a:xfrm>
        </p:grpSpPr>
        <p:sp>
          <p:nvSpPr>
            <p:cNvPr id="91" name=""/>
            <p:cNvSpPr/>
            <p:nvPr/>
          </p:nvSpPr>
          <p:spPr>
            <a:xfrm>
              <a:off x="1432080" y="4497480"/>
              <a:ext cx="1722240" cy="83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6640" y="4649760"/>
              <a:ext cx="1219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思想陶冶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592600" y="4952880"/>
            <a:ext cx="1722600" cy="836640"/>
            <a:chOff x="5592600" y="4952880"/>
            <a:chExt cx="1722600" cy="836640"/>
          </a:xfrm>
        </p:grpSpPr>
        <p:sp>
          <p:nvSpPr>
            <p:cNvPr id="94" name=""/>
            <p:cNvSpPr/>
            <p:nvPr/>
          </p:nvSpPr>
          <p:spPr>
            <a:xfrm>
              <a:off x="5592600" y="4952880"/>
              <a:ext cx="1722600" cy="836640"/>
            </a:xfrm>
            <a:prstGeom prst="ellipse">
              <a:avLst/>
            </a:prstGeom>
            <a:gradFill rotWithShape="0">
              <a:gsLst>
                <a:gs pos="0">
                  <a:srgbClr val="d8e5fe"/>
                </a:gs>
                <a:gs pos="100000">
                  <a:srgbClr val="66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51440" y="5105520"/>
              <a:ext cx="1219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溝通領導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413160" y="5335560"/>
            <a:ext cx="1722240" cy="836640"/>
            <a:chOff x="3413160" y="5335560"/>
            <a:chExt cx="1722240" cy="836640"/>
          </a:xfrm>
        </p:grpSpPr>
        <p:sp>
          <p:nvSpPr>
            <p:cNvPr id="97" name=""/>
            <p:cNvSpPr/>
            <p:nvPr/>
          </p:nvSpPr>
          <p:spPr>
            <a:xfrm>
              <a:off x="3413160" y="5335560"/>
              <a:ext cx="1722240" cy="83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993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18080" y="5487840"/>
              <a:ext cx="1218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000000"/>
                  </a:solidFill>
                  <a:latin typeface="Times New Roman"/>
                  <a:ea typeface="標楷體"/>
                </a:rPr>
                <a:t>群己關係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762120" y="1371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50021"/>
                </a:solidFill>
                <a:latin typeface="標楷體"/>
                <a:ea typeface="標楷體"/>
              </a:rPr>
              <a:t>大學教育</a:t>
            </a:r>
            <a:r>
              <a:rPr b="1" lang="zh-TW" sz="3200" spc="-1" strike="noStrike">
                <a:solidFill>
                  <a:srgbClr val="000066"/>
                </a:solidFill>
                <a:latin typeface="標楷體"/>
                <a:ea typeface="標楷體"/>
              </a:rPr>
              <a:t>　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課堂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外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的教育與課堂內的學習</a:t>
            </a:r>
            <a:br>
              <a:rPr sz="3200"/>
            </a:b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　　　　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　同等重要，甚至更重要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專業技能的生命週期日趨縮短；學生的思考、分析與整合技術的能力比專業科目的能力更能持久。</a:t>
            </a:r>
            <a:br>
              <a:rPr sz="3200"/>
            </a:br>
            <a:r>
              <a:rPr b="1" lang="zh-TW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學生對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歷史文化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社會發展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的知識必須加強。這些素養將有助於他們透過新的職場生態與社會環境，找到自己的定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57920" y="5425920"/>
            <a:ext cx="39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a50021"/>
                </a:solidFill>
                <a:latin typeface="Times New Roman"/>
              </a:rPr>
              <a:t>                 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</a:rPr>
              <a:t>－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Donald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(</a:t>
            </a:r>
            <a:r>
              <a:rPr b="1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史丹佛大學前校長</a:t>
            </a:r>
            <a:r>
              <a:rPr b="1" lang="zh-TW" sz="2000" spc="-1" strike="noStrike">
                <a:solidFill>
                  <a:srgbClr val="a50021"/>
                </a:solidFill>
                <a:latin typeface="標楷體"/>
                <a:ea typeface="標楷體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340080" y="2273400"/>
            <a:ext cx="252072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求知慾與創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 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通才與專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人文與科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語文、資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第二專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通識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現代大學教育之重要課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228600" y="4667400"/>
            <a:ext cx="22860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19440" y="2057400"/>
            <a:ext cx="3533400" cy="32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談現代教育的兩個問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”</a:t>
            </a: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與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學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教”</a:t>
            </a: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與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育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133360" y="1980720"/>
            <a:ext cx="536724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3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Mor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reading</a:t>
            </a:r>
            <a:br>
              <a:rPr sz="4000"/>
            </a:b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more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riting </a:t>
            </a:r>
            <a:br>
              <a:rPr sz="4000"/>
            </a:b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more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presentation</a:t>
            </a:r>
            <a:br>
              <a:rPr sz="4000"/>
            </a:b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and more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inte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685880"/>
            <a:ext cx="7580160" cy="30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漫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「元智經典五十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的想法與作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7840" y="3999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/>
          </p:cNvPr>
          <p:cNvSpPr/>
          <p:nvPr/>
        </p:nvSpPr>
        <p:spPr>
          <a:xfrm>
            <a:off x="1352520" y="1152360"/>
            <a:ext cx="8380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8520" y="1368360"/>
            <a:ext cx="8380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52960" y="3009960"/>
            <a:ext cx="8380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84520" y="1584360"/>
            <a:ext cx="8380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363920" y="3220920"/>
            <a:ext cx="847800" cy="847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52960" y="3009960"/>
            <a:ext cx="8380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00160" y="1800360"/>
            <a:ext cx="8384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16160" y="2016000"/>
            <a:ext cx="8380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9920" y="343692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795920" y="3652920"/>
            <a:ext cx="847800" cy="84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432160" y="2232000"/>
            <a:ext cx="8380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016600" y="3873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232240" y="408924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647800" y="2448000"/>
            <a:ext cx="83844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664000"/>
            <a:ext cx="8380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80" y="3352680"/>
            <a:ext cx="8380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480" y="3352680"/>
            <a:ext cx="838080" cy="838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81080"/>
            <a:ext cx="79930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a50021"/>
                </a:solidFill>
                <a:latin typeface="Times New Roman"/>
                <a:ea typeface="標楷體"/>
              </a:rPr>
              <a:t>元智的教育重點簡單來講就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以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育”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為主，以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“教”</a:t>
            </a: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為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TW" sz="4000" spc="-1" strike="noStrike">
                <a:solidFill>
                  <a:srgbClr val="006600"/>
                </a:solidFill>
                <a:latin typeface="Times New Roman"/>
                <a:ea typeface="標楷體"/>
              </a:rPr>
              <a:t>讓學生</a:t>
            </a:r>
            <a:r>
              <a:rPr b="1" lang="zh-TW" sz="3600" spc="-1" strike="noStrike">
                <a:solidFill>
                  <a:srgbClr val="006600"/>
                </a:solidFill>
                <a:latin typeface="Times New Roman"/>
                <a:ea typeface="標楷體"/>
              </a:rPr>
              <a:t> </a:t>
            </a:r>
            <a:r>
              <a:rPr b="1" lang="zh-TW" sz="5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開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105520"/>
            <a:ext cx="1890720" cy="1346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133720" y="1752480"/>
            <a:ext cx="5715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76280" indent="-476280"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有系統有組織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表達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勤樸踏實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求學態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鑑賞文化與藝術之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素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國際化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之視野</a:t>
            </a:r>
            <a:r>
              <a:rPr b="1" lang="zh-TW" sz="3200" spc="-1" strike="noStrike">
                <a:solidFill>
                  <a:srgbClr val="000066"/>
                </a:solidFill>
                <a:latin typeface="Times New Roman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1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終身學習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之能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7391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Who has seen the w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Neither I nor you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But when the leaves hang trembli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標楷體"/>
              </a:rPr>
              <a:t>The wind is passing thr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TW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－英國詩人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標楷體"/>
              </a:rPr>
              <a:t>Christina Ros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79640" y="1916280"/>
            <a:ext cx="67690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在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校園營造一種氣氛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  <a:ea typeface="標楷體"/>
              </a:rPr>
              <a:t>讓學生接受挑戰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，並成為一流人才，便是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MIT</a:t>
            </a: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辦學成功的不二法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  <a:ea typeface="標楷體"/>
              </a:rPr>
              <a:t>                                     </a:t>
            </a:r>
            <a:r>
              <a:rPr b="1" lang="zh-TW" sz="32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</a:t>
            </a: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Charles M. 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  <a:ea typeface="標楷體"/>
              </a:rPr>
              <a:t>                                              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(MIT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前校長</a:t>
            </a:r>
            <a:r>
              <a:rPr b="1" lang="zh-TW" sz="2400" spc="-1" strike="noStrike">
                <a:solidFill>
                  <a:srgbClr val="a50021"/>
                </a:solidFill>
                <a:latin typeface="Times New Roman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1830240"/>
            <a:ext cx="65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在元智校園內建構一流學術殿堂的氣氛，讓學生潛移默化，自然願意在求學與研究激發潛力，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挑戰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更高的目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讓學生的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能力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與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精力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標楷體"/>
              </a:rPr>
              <a:t>可以在大學校園內迸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56040" y="1752480"/>
            <a:ext cx="27590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激發學生創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元智經典五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全校性創意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強化社團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創意競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創業實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大學生之教育與輔導重點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1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of 3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4732200"/>
            <a:ext cx="285768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43000" y="1752480"/>
            <a:ext cx="27500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美育與境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藝文活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駐校藝術家駐校作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藝文課程及競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人文藝術走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校園美化及環境再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大學生之教育與輔導重點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2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of 3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05360" y="1752480"/>
            <a:ext cx="323784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生活學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雙軌導師制（師友制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大師駐宿夜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宿舍生活學習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11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Times New Roman"/>
                <a:ea typeface="標楷體"/>
              </a:rPr>
              <a:t>服務學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Times New Roman"/>
                <a:ea typeface="標楷體"/>
              </a:rPr>
              <a:t>大學生之教育與輔導重點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3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of 3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75760" y="1173240"/>
            <a:ext cx="1908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200" spc="-1" strike="noStrike">
                <a:solidFill>
                  <a:srgbClr val="a50021"/>
                </a:solidFill>
                <a:latin typeface="標楷體"/>
                <a:ea typeface="標楷體"/>
              </a:rPr>
              <a:t>謝謝各位</a:t>
            </a:r>
            <a:r>
              <a:rPr b="1" lang="zh-TW" sz="4200" spc="-1" strike="noStrike">
                <a:solidFill>
                  <a:srgbClr val="a50021"/>
                </a:solidFill>
                <a:latin typeface="標楷體"/>
                <a:ea typeface="標楷體"/>
              </a:rPr>
              <a:t>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2630520"/>
            <a:ext cx="3451320" cy="361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24280" y="1335240"/>
            <a:ext cx="2438640" cy="1447560"/>
          </a:xfrm>
          <a:prstGeom prst="cloudCallout">
            <a:avLst>
              <a:gd name="adj1" fmla="val -66601"/>
              <a:gd name="adj2" fmla="val 78837"/>
            </a:avLst>
          </a:prstGeom>
          <a:gradFill rotWithShape="0">
            <a:gsLst>
              <a:gs pos="0">
                <a:srgbClr val="fefefe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 Happy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1440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君子之德風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小人之德草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草上之風必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TW" sz="2800" spc="-1" strike="noStrike">
                <a:solidFill>
                  <a:srgbClr val="006600"/>
                </a:solidFill>
                <a:latin typeface="Times New Roman"/>
                <a:ea typeface="標楷體"/>
              </a:rPr>
              <a:t>－論語．顏淵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33360" y="2438280"/>
            <a:ext cx="55623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教養來自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潛移默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00"/>
                </a:solidFill>
                <a:latin typeface="Times New Roman"/>
                <a:ea typeface="標楷體"/>
              </a:rPr>
              <a:t>教育源於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努力用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371600" y="2209680"/>
            <a:ext cx="5029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華康儷粗黑"/>
              </a:rPr>
              <a:t>教育理念分享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華康儷粗黑"/>
              <a:ea typeface="華康儷粗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57320" y="1523880"/>
            <a:ext cx="4905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a50021"/>
                </a:solidFill>
                <a:latin typeface="標楷體"/>
                <a:ea typeface="標楷體"/>
              </a:rPr>
              <a:t>布施</a:t>
            </a:r>
            <a:r>
              <a:rPr b="1" lang="zh-TW" sz="5400" spc="-1" strike="noStrike">
                <a:solidFill>
                  <a:srgbClr val="a50021"/>
                </a:solidFill>
                <a:latin typeface="標楷體"/>
                <a:ea typeface="標楷體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0000"/>
                </a:solidFill>
                <a:latin typeface="標楷體"/>
                <a:ea typeface="標楷體"/>
              </a:rPr>
              <a:t>　　</a:t>
            </a:r>
            <a:r>
              <a:rPr b="1" lang="zh-TW" sz="4000" spc="-1" strike="noStrike">
                <a:solidFill>
                  <a:srgbClr val="006600"/>
                </a:solidFill>
                <a:latin typeface="標楷體"/>
                <a:ea typeface="標楷體"/>
              </a:rPr>
              <a:t>從六祖壇經與金剛經談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705280" y="4743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a50021"/>
                </a:solidFill>
                <a:latin typeface="Times New Roman"/>
                <a:ea typeface="標楷體"/>
              </a:rPr>
              <a:t>－金剛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95480" y="2362320"/>
            <a:ext cx="3048120" cy="1904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全真中黑體"/>
              </a:rPr>
              <a:t>應無所住</a:t>
            </a:r>
            <a:endParaRPr b="1" lang="en-US" sz="5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全真中黑體"/>
              </a:rPr>
              <a:t>而生其心</a:t>
            </a:r>
            <a:endParaRPr b="1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全真中黑體"/>
              <a:ea typeface="全真中黑體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19160" y="1523880"/>
            <a:ext cx="4981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a50021"/>
                </a:solidFill>
                <a:latin typeface="標楷體"/>
                <a:ea typeface="標楷體"/>
              </a:rPr>
              <a:t>布施</a:t>
            </a:r>
            <a:r>
              <a:rPr b="1" lang="zh-TW" sz="5400" spc="-1" strike="noStrike">
                <a:solidFill>
                  <a:srgbClr val="a50021"/>
                </a:solidFill>
                <a:latin typeface="標楷體"/>
                <a:ea typeface="標楷體"/>
              </a:rPr>
              <a:t>-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c0000"/>
                </a:solidFill>
                <a:latin typeface="標楷體"/>
                <a:ea typeface="標楷體"/>
              </a:rPr>
              <a:t>　　</a:t>
            </a:r>
            <a:r>
              <a:rPr b="1" lang="zh-TW" sz="4000" spc="-1" strike="noStrike">
                <a:solidFill>
                  <a:srgbClr val="006600"/>
                </a:solidFill>
                <a:latin typeface="標楷體"/>
                <a:ea typeface="標楷體"/>
              </a:rPr>
              <a:t>從六祖壇經與金剛經談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標楷體"/>
                <a:ea typeface="標楷體"/>
              </a:rPr>
              <a:t>　迷時師渡  悟了自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4T13:59:17Z</dcterms:created>
  <dc:creator>user</dc:creator>
  <dc:description/>
  <dc:language>en-US</dc:language>
  <cp:lastModifiedBy>tpperng</cp:lastModifiedBy>
  <dcterms:modified xsi:type="dcterms:W3CDTF">2006-02-16T16:12:51Z</dcterms:modified>
  <cp:revision>114</cp:revision>
  <dc:subject/>
  <dc:title>無投影片標題</dc:title>
</cp:coreProperties>
</file>